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CA6E-B9A7-4974-8789-C235463F4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D510-11EA-497B-878B-A9026263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6706-E173-418F-AE77-BC123A9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48C5-4FBC-43BA-BA31-93F303A24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86C4-1575-4DF1-AF01-C2CDCCB0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919E-38A4-483C-AE5C-ABA4E75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06E5-DF75-4A7C-A015-2693FAD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4A17-690D-43B9-8DC3-68771E06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5837-79F7-4EA8-AF74-4C6D4156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D6EB-97B2-436C-BA04-A999644E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6F58-32FC-4A98-8DB7-0F1E06BD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B157-2C06-4D20-9C1E-14EE2B6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TCR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AB6-8AAB-47D1-B0E2-8CA12217D829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2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3ABC-AA76-453A-89F6-0C482CF2DFE4}" type="datetime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13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6564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13273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TCR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adb7f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9E83-7C1C-41F0-8996-EE005DB53267}" type="datetime">
              <a:rPr b="0" lang="zh-CN" sz="1300" spc="-1" strike="noStrike">
                <a:solidFill>
                  <a:srgbClr val="adb7fd"/>
                </a:solidFill>
                <a:latin typeface="Times New Roman"/>
                <a:ea typeface="宋体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0020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24852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Arial"/>
              </a:rPr>
              <a:t>© 20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宋体"/>
              </a:rPr>
              <a:t>10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宋体"/>
              </a:rPr>
              <a:t>TTCRM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Arial"/>
              </a:rPr>
              <a:t> Corpo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1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db7fd"/>
                </a:solidFill>
                <a:latin typeface="宋体"/>
                <a:ea typeface="宋体"/>
              </a:rPr>
              <a:t>终端通（北京）有限公司 </a:t>
            </a:r>
            <a:r>
              <a:rPr b="0" lang="en-US" sz="1600" spc="-1" strike="noStrike">
                <a:solidFill>
                  <a:srgbClr val="adb7fd"/>
                </a:solidFill>
                <a:latin typeface="宋体"/>
                <a:ea typeface="宋体"/>
              </a:rPr>
              <a:t>400-8610-8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275"/>
              </a:spcBef>
              <a:spcAft>
                <a:spcPts val="13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403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业务掌中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522600" cy="1344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461280"/>
            <a:ext cx="4114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版权所有，侵权必究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7543800" cy="2286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播放才能看到动画效果，请选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顶部菜单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幻灯片放映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看放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9A0AD-23EF-4BE9-A266-5691097800E8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项目实施过程，以及推进办法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1722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92240" y="1219320"/>
            <a:ext cx="87994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项目启动，员工轨迹会经历如下四阶段，推进的关键是“抓制度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参阅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http://wenku.baidu.com/view/7c0fb2765acfa1c7aa00cc4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5043600"/>
            <a:ext cx="8915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系统一旦上线，您的推动力度，就成了关键（注意：推动方法，就是抓制度，不要口头强调，要真正落实到制度文档上），要经常阅读员工轨迹，认真审批日报、拜访记录，掌握员工每日工作情况，形成习惯，发现问题及时调整政策予以解决，工作就会越走越顺。相反，如果您关注度不够，时间一长，员工也会逐渐懈怠，这套系统也就成了摆设。如果您认为上一套系统就万事大吉了，上了就再也不管了，可能会一直停留在第一阶段，根本看不到后面的效果。甚至，过段时间，员工连签到都懒得做了。如果您做事没有长性，员工当然得过且过，切切注意。不同阶段的目标应该不同，处于①时，目标为②，实现了②则目标变为③，实现了③眼光就要放到第④阶段。逐步进展，不断提升，最终让外勤业务完全可控。如在某个阶段停留时间过长，迟迟没有进展，说明领导关注不够，或关注方法有问题，制度不明确、或执行不到位，问题出在领导身上，请自查反省，若此时只找员工因素，则只会延误时机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    制度要涵盖两个方面：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）针对员工的约束；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）针对经理的约束，要确保各级管理者及时、认真、长期坚持审核员工的每日工作，只要管理者不偷懒，员工就不敢懈怠。如果不能形成长效机制，管理者抓几天放一段时间，等问题出现，再抓几天再放一段时间，反反复复，就不能从根本上解决问题，员工的工作也会出现时好时坏、起起落落的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D3DF-CC08-4FC8-9E9C-02A8E5A17B2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2F8758A-B9C6-4461-B7F4-62E5D69881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小结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398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文阐述，解决了员工的考勤、脱岗问题，依照执行，就能确保员工真正到达、并呆在我们要他去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是，让他去，不是要他呆在那里，而是要真正将工作干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就要解决“出工不出力”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实现这个目标，就必须记录员工在那里都“干了些什么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依据结果，奖勤罚懒、关联绩效工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端通提供“现场工作记录表”及相应流程来达到这个目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9336-3C40-4B4E-A51A-C8D2F7F06A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957BFCA-9B17-4D5E-A924-779A9A5A24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怎么解决“出工不出力”的难题？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994480"/>
            <a:ext cx="876312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工不出力”包括两种情况：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本意想做好，但限于经验、能力，有心无力，总是做不到点子上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懒惰、不想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决办法：将员工要完成的工作，细分成若干个步骤，每个步骤包括：工作内容、工作时间、工作地点、工作方法、工作目标、结果要求、以及如何填报结果，将这些步骤逐个录入系统，在员工的手机上形成一个工作流程，员工按流程走，每完成一个步骤，就填报一个结果。只要您的提示够细致，经验不足、但认真负责的员工，就会仔细琢磨，依据流程、按提示，完成个八九不离十，这就能有效解决员工“不会干”的问题。然后认真审批员工的每步工作，通过检查每个步骤的完成情况评价员工业绩，未认真完成工作的，就没有工作记录或记录不合格，没有业绩就没有绩效奖，从而解决员工“不想干”的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47AA-C010-445B-9EFF-DF82E4F4CEE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843C417-A5C2-4C7D-AE59-4598D4C280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步：系统管理员定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现场工作记录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出题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2548800"/>
            <a:ext cx="891540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个步骤，真正体现管理者的价值。每个管理者应该追求的目标是：即使今天才入职的、没有任何经验的一个员工，无需再讲解，只要拿着手机，认真按照您定义的流程执行，工作就能做到基本合格。如果不能达到这个目标，管理者应从自身找原因，继续改善和优化现场工作记录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您遇到过吗？明明安排的是这个，员工却干成那个了。有一半的可能性是您没“表达清楚”。想想麦当劳为何将洗手的过程规定（出题）的那么严格，是因为，要不这样，</a:t>
            </a:r>
            <a:r>
              <a:rPr b="0" lang="en-US" sz="1800" spc="-1" strike="noStrike">
                <a:solidFill>
                  <a:srgbClr val="0066ff"/>
                </a:solidFill>
                <a:latin typeface="宋体"/>
                <a:ea typeface="宋体"/>
              </a:rPr>
              <a:t>100</a:t>
            </a: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个人就会有</a:t>
            </a:r>
            <a:r>
              <a:rPr b="0" lang="en-US" sz="1800" spc="-1" strike="noStrike">
                <a:solidFill>
                  <a:srgbClr val="0066ff"/>
                </a:solidFill>
                <a:latin typeface="宋体"/>
                <a:ea typeface="宋体"/>
              </a:rPr>
              <a:t>100</a:t>
            </a: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种洗法。只要您的业务比洗手更复杂，无论您多么细心，仍可能有不同员工理解不同，结果自然“不可控”。不过，您很幸运，洗手的结果不好审批，但您的业务往往可以审批，这为发现问题、不断改善提供了保障，但前提是，您要充分认识到，这个环节无止境、需要不断优化。另外，还要意识到，只要是能用口头传达的，就能用文字，而且，文字是一劳永逸的唯一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向员工表达的方式，就是将工作划分成若干个更容易理解的步骤，每个步骤包括：工作方法、结果要求、评分标准。考试是大家最熟悉、最容易理解、也最能引起重视的形式，应该借鉴。本系统以如下三种类型填报工作结果：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 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选择型。例：活动执行情况：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良好、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一般、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问题；</a:t>
            </a:r>
            <a:r>
              <a:rPr b="0" lang="zh-CN" sz="1200" spc="-1" strike="noStrike">
                <a:solidFill>
                  <a:srgbClr val="cc3300"/>
                </a:solidFill>
                <a:latin typeface="宋体"/>
                <a:ea typeface="宋体"/>
              </a:rPr>
              <a:t>方法、要求、标准</a:t>
            </a:r>
            <a:br>
              <a:rPr sz="12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 ●回答型。例：本次拜访目标：员工可用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字回答；</a:t>
            </a:r>
            <a:r>
              <a:rPr b="0" lang="zh-CN" sz="1200" spc="-1" strike="noStrike">
                <a:solidFill>
                  <a:srgbClr val="cc3300"/>
                </a:solidFill>
                <a:latin typeface="宋体"/>
                <a:ea typeface="宋体"/>
              </a:rPr>
              <a:t>方法、要求、标准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   ●填空型。例：本日费用：交通费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【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住宿费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【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餐费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【】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..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200" spc="-1" strike="noStrike">
                <a:solidFill>
                  <a:srgbClr val="cc3300"/>
                </a:solidFill>
                <a:latin typeface="宋体"/>
                <a:ea typeface="宋体"/>
              </a:rPr>
              <a:t>方法、要求、标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综合利用，涵盖所有业务环节，录入系统，在手机上生成“工作流程”，员工依照答题即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F1CB-9F44-429C-A541-0801FF2B94F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8862416-E1D2-40E9-B098-ADEAF42F344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二步：员工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现场记录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完成工作（答题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579600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    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员工每个步骤的工作，就是在不断地回答、确认管理者所提出的问题。因此，问题的明确、细致程度，就决定了员工工作的到位程度。问题设置不是一撮而就的，以后无论何时，一旦发现某个问题员工理解有歧义，应立即修改优化。请重温“细节决定成败”这句名言，真正落实在出题环节。当某个步骤员工的工作不容易达标时，请首先检查题出的是否明确，题本身有歧义，答案就不可能准确，工作结果自然“不可控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124080" y="114300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1279080" y="3543480"/>
            <a:ext cx="1032840" cy="711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员工在手机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看到的步骤、流程、问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点击题目，开始回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3160" y="2994120"/>
            <a:ext cx="124632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选择型回答界面，照片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必须时，不拍照无法回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45720" y="2514600"/>
            <a:ext cx="113940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回答型题目的提报界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F6E7-DF03-4788-9EE5-82D5CB5F5A1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8CAFD27-F442-4784-B939-81970DEBC1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三步：经理审批员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现场记录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批卷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04920" y="1143000"/>
            <a:ext cx="914400" cy="304920"/>
          </a:xfrm>
          <a:prstGeom prst="wedgeRectCallout">
            <a:avLst>
              <a:gd name="adj1" fmla="val -694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共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题答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143000"/>
            <a:ext cx="838080" cy="304920"/>
          </a:xfrm>
          <a:prstGeom prst="wedgeRectCallout">
            <a:avLst>
              <a:gd name="adj1" fmla="val -41666"/>
              <a:gd name="adj2" fmla="val 10312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满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3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得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514600"/>
            <a:ext cx="838080" cy="304920"/>
          </a:xfrm>
          <a:prstGeom prst="wedgeRectCallout">
            <a:avLst>
              <a:gd name="adj1" fmla="val 9847"/>
              <a:gd name="adj2" fmla="val -1218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照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971800"/>
            <a:ext cx="838080" cy="304920"/>
          </a:xfrm>
          <a:prstGeom prst="wedgeRectCallout">
            <a:avLst>
              <a:gd name="adj1" fmla="val -21967"/>
              <a:gd name="adj2" fmla="val -968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审批意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048120"/>
            <a:ext cx="1143000" cy="304560"/>
          </a:xfrm>
          <a:prstGeom prst="wedgeRectCallout">
            <a:avLst>
              <a:gd name="adj1" fmla="val -59444"/>
              <a:gd name="adj2" fmla="val -10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查看答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733920"/>
            <a:ext cx="1143000" cy="304560"/>
          </a:xfrm>
          <a:prstGeom prst="wedgeRectCallout">
            <a:avLst>
              <a:gd name="adj1" fmla="val 5000"/>
              <a:gd name="adj2" fmla="val 10729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填写审批意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09880"/>
            <a:ext cx="2210040" cy="304920"/>
          </a:xfrm>
          <a:prstGeom prst="wedgeRectCallout">
            <a:avLst>
              <a:gd name="adj1" fmla="val 24425"/>
              <a:gd name="adj2" fmla="val -134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需要继续关注，直至问题解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41720"/>
            <a:ext cx="8610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    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审批时限可设置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0-9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日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0-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当日必须审批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-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次日必须审批，过期不能再审，凡因过期未审，导致员工无业绩的，相关经理应承担责任，应明确规定，每漏审一份日报或现场记录表，扣相关人员积分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***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分。对漏审的，由系统管理员补审，确保对员工公正。系统管理员的审批时限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971800"/>
            <a:ext cx="2590560" cy="304920"/>
          </a:xfrm>
          <a:prstGeom prst="wedgeRectCallout">
            <a:avLst>
              <a:gd name="adj1" fmla="val -39949"/>
              <a:gd name="adj2" fmla="val -10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评分，次日凌晨汇总进入绩效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42670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4495680"/>
            <a:ext cx="1447560" cy="304920"/>
          </a:xfrm>
          <a:prstGeom prst="wedgeRectCallout">
            <a:avLst>
              <a:gd name="adj1" fmla="val 24124"/>
              <a:gd name="adj2" fmla="val 11562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如过期，不能再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2438280"/>
            <a:ext cx="838440" cy="304920"/>
          </a:xfrm>
          <a:prstGeom prst="wedgeRectCallout">
            <a:avLst>
              <a:gd name="adj1" fmla="val -25000"/>
              <a:gd name="adj2" fmla="val -1135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审批意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91920" y="3543480"/>
            <a:ext cx="81936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管理者在手机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看到的答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334120"/>
            <a:ext cx="655344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注意：确保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4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之前（服务器时间）完成审批，否则，汇总统计将推后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FA39-DBF7-4326-A2A9-204B52AED47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1D3790-7A50-4D0A-B427-C24173771C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37040" y="1276200"/>
            <a:ext cx="286848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四步：员工查询自己的工作结果（查成绩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228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52280" y="2362320"/>
            <a:ext cx="990720" cy="304560"/>
          </a:xfrm>
          <a:prstGeom prst="wedgeRectCallout">
            <a:avLst>
              <a:gd name="adj1" fmla="val 16027"/>
              <a:gd name="adj2" fmla="val -101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走访客户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514600"/>
            <a:ext cx="1066680" cy="304920"/>
          </a:xfrm>
          <a:prstGeom prst="wedgeRectCallout">
            <a:avLst>
              <a:gd name="adj1" fmla="val -6546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当日日报得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648320"/>
            <a:ext cx="1143000" cy="304560"/>
          </a:xfrm>
          <a:prstGeom prst="wedgeRectCallout">
            <a:avLst>
              <a:gd name="adj1" fmla="val 18333"/>
              <a:gd name="adj2" fmla="val -1302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当日得分合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590920"/>
            <a:ext cx="1295280" cy="304560"/>
          </a:xfrm>
          <a:prstGeom prst="wedgeRectCallout">
            <a:avLst>
              <a:gd name="adj1" fmla="val -30884"/>
              <a:gd name="adj2" fmla="val -1177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次走访得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25080" y="2514600"/>
            <a:ext cx="1139400" cy="924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查看每个步骤提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上级审批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该步骤的得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或是否被关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93244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    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查看自己某天、走访某个客户、具体某个步骤的工作结果，了解上级领导对工作的满意程度，总结改进办法，不断提升业务能力。了解自己本月已得分数，计算绩效工资，明白努力多一份，收获就能多一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828800"/>
            <a:ext cx="990720" cy="304920"/>
          </a:xfrm>
          <a:prstGeom prst="wedgeRectCallout">
            <a:avLst>
              <a:gd name="adj1" fmla="val -103203"/>
              <a:gd name="adj2" fmla="val -1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走访客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0520" y="3581280"/>
            <a:ext cx="81936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点击看当日详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581280"/>
            <a:ext cx="1295640" cy="304920"/>
          </a:xfrm>
          <a:prstGeom prst="wedgeRectCallout">
            <a:avLst>
              <a:gd name="adj1" fmla="val -13236"/>
              <a:gd name="adj2" fmla="val -126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次走访得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CAD6-1C77-480B-8C57-B1919A81E80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0F327D6-2DB4-4E1C-A8E8-A47E400038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案例分析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447920"/>
            <a:ext cx="876312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客户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卖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工作记录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义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员工某日现场记录表明，完成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的工作耗时半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后一项工作非常简单，但完成时间距离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时企业怀疑，员工到店后有脱岗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终查明，该员工当日在店内面试促销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减少此类疑问，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之后增加“其他工作及所用时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样，就能让所有时间，都有工作记录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注意：定义的项目，应覆盖工作期间的所有时段，减少疑问，就是提升效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9817-8257-4203-9475-B242B57F8D5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F1BD857-4F95-48B7-A516-788C67ADC8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五步：核算绩效工资（奖惩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877280"/>
            <a:ext cx="861048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得分来自三个方面：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考勤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日报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现场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分数：如销售额，可在日报中定义，会自动核算绩效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9240" y="1789200"/>
            <a:ext cx="869616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410080" y="1523880"/>
            <a:ext cx="1371600" cy="304920"/>
          </a:xfrm>
          <a:prstGeom prst="wedgeRectCallout">
            <a:avLst>
              <a:gd name="adj1" fmla="val -16203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每分核算多少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114800"/>
            <a:ext cx="1371600" cy="304920"/>
          </a:xfrm>
          <a:prstGeom prst="wedgeRectCallout">
            <a:avLst>
              <a:gd name="adj1" fmla="val -15277"/>
              <a:gd name="adj2" fmla="val -15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当日工作得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72400" y="4114800"/>
            <a:ext cx="1371600" cy="304920"/>
          </a:xfrm>
          <a:prstGeom prst="wedgeRectCallout">
            <a:avLst>
              <a:gd name="adj1" fmla="val -15277"/>
              <a:gd name="adj2" fmla="val -15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月得分小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2209680"/>
            <a:ext cx="914400" cy="304920"/>
          </a:xfrm>
          <a:prstGeom prst="wedgeRectCallout">
            <a:avLst>
              <a:gd name="adj1" fmla="val 24305"/>
              <a:gd name="adj2" fmla="val 9479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月奖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BC5B-6DED-4B6A-B02E-D8850FD2718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FA2A7C7-371C-44E3-ABA3-EF06B0F59D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控制好关键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371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了如上手段，企业只需控制好如下三个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清晰定义员工的工作流程和内容（试卷好出好哦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认真审批员工每步骤的工作结果（批卷要认真哦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审批结果（得分）核算绩效（奖惩要到位哦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只要管理人员不偷懒，员工就不敢懈怠，企业的业务就会越走越顺。彻底解决员工“出工不出力”之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如果管理者偷懒，不及时审批，则员工无绩效，管理人员应该承担责任。互相牵制，谁偷懒都不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A2EB-3141-4322-B320-E467DC0BD24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14C09B-9E01-42FA-A2DF-54E5483CB6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说明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751760"/>
            <a:ext cx="88394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档适合于领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快速了解终端通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要进一步了解，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浏览官网“产品服务”页面：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“下载试用”页面下载文件、软件：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xz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“如何购买”页面，了解价格：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rhgm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C41D-EA7B-4DC4-BFB9-D6AC7D455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E2D7A19-685A-49C2-A007-77D163AEAF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由谁审批最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1600200"/>
            <a:ext cx="8763120" cy="41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勤与办公室人员不同，他们的位置、时间、工作内容灵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有直接上级，才最清楚每个人的情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以，审批（包括考勤审批）应该交予直接经理负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提供越级审批，但不推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提供对定位轨迹、签到、日报、现场记录及审批结果的越级查询，上级可随时查询掌握任何一个（层）下级的员工情况，所以，不必担心会失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6CD3-5C7E-44DF-BFAC-6D4BF8BBD72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95C6C8B-9A6B-4970-8F1F-58E1C0CE81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再次强调：及时审批的重要性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447920"/>
            <a:ext cx="8610480" cy="35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量客户的实践表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连续几日未审批，员工会认为：上级不一定看我的记录，从而产生侥幸、懈怠心里，开始对付系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每项内容的审批，要制定明确标准：时限、质量、数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越级审批很难确保及时、准确，且会让下级管理者感觉到“被降级”使用，从而产生逆反心里，一定要将本系统作为基层管理者的工具，发挥基层管理者的监督、管理作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旦漏审，应有惩罚措施，建立完善的审批制度，确保每项工作内容：有布置就有检查和审批，责任到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下级的审批结果，也要经常检查，发现问题，及时纠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8892-F456-4F04-86F7-25FA19636AC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7945E4-8E59-49A5-8FB3-109D1A4448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关于试用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920" y="1752480"/>
            <a:ext cx="8300880" cy="40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免费试用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试用的就是正式系统，仅服务期有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用下载地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xz.jsp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ttcrm.com/zzb_xz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802B-DB77-475C-BF57-637BF105929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AD4CD18-C618-40E8-A975-0AAE5B93CC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关于服务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920" y="1500120"/>
            <a:ext cx="83008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付费模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按月、按人计费，月初扣除上月费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余额不足时，客户自行充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服务价格、购买方式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rhgm.jsp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ttcrm.com/zzb_rhgm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48E1-2CD2-478F-81FD-D9B6C2B6BDE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936200E-7BB1-4401-B766-A0746FA7BE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建议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920" y="1828800"/>
            <a:ext cx="8300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仅节选介绍，详情建议阅读终端通官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ww.zdt6.cn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或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ww.ttcr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85341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1981080" y="4876920"/>
            <a:ext cx="1143000" cy="304560"/>
          </a:xfrm>
          <a:prstGeom prst="wedgeRectCallout">
            <a:avLst>
              <a:gd name="adj1" fmla="val -8333"/>
              <a:gd name="adj2" fmla="val -1177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了解详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886200"/>
            <a:ext cx="1143000" cy="304920"/>
          </a:xfrm>
          <a:prstGeom prst="wedgeRectCallout">
            <a:avLst>
              <a:gd name="adj1" fmla="val -16111"/>
              <a:gd name="adj2" fmla="val 136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试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876920"/>
            <a:ext cx="1143000" cy="304560"/>
          </a:xfrm>
          <a:prstGeom prst="wedgeRectCallout">
            <a:avLst>
              <a:gd name="adj1" fmla="val -8333"/>
              <a:gd name="adj2" fmla="val -1177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有谁在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3886200"/>
            <a:ext cx="1143000" cy="304920"/>
          </a:xfrm>
          <a:prstGeom prst="wedgeRectCallout">
            <a:avLst>
              <a:gd name="adj1" fmla="val -18333"/>
              <a:gd name="adj2" fmla="val 1239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看看价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638680"/>
            <a:ext cx="8458200" cy="501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请在“下载试用”页面下载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试用注意事项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操作手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，依据说明，开始试用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6660-53CF-4D67-BEF2-D2A31EDDB2D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FC1868-C222-4316-993C-FEB878C3662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6765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沟通就有可能！请联系我们！</a:t>
            </a:r>
            <a:br>
              <a:rPr sz="2800"/>
            </a:b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终端通（北京）有限公司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ww.zdt6.com  www.ttcrm.com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00-8610-878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QQ:302334218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226217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BB4C9F-0418-49EF-9FFB-7AE6BC6673B1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终端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业务掌中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562720"/>
            <a:ext cx="86104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是一套管理外勤员工及其业务的手机软件，有定位版、普及版、专业版三个版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8920" y="1371600"/>
            <a:ext cx="8426160" cy="36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8408-7AEA-4DA9-B50D-197A87B88C3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73B7704-CD37-4C3A-BCEC-EC5EEADC52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各版本主要功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35040"/>
            <a:ext cx="861048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位版：签到打卡、定位轨迹、查岗、考勤统计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及版：包含定位版全部功能，另增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报、审批单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专业版：包含定位版、普及版全部功能，另增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客户（网点）管理、线路、巡访、现场照片、数据、订单、店面（客户）进销存管理、绩效管理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详情见：终端通网站“产品服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页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B741-CED8-46BD-A6C4-AE8E256DC2A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897EFA-667F-4920-AAB8-668C8EB3E1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工作原理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876920"/>
            <a:ext cx="3581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定工作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限定员工在一个或多个位置完成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426160" cy="318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213080" y="1138320"/>
            <a:ext cx="83844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4080" y="1290600"/>
            <a:ext cx="476280" cy="60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0760" y="1900080"/>
            <a:ext cx="168588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上班签到，启动定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6560" y="1824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完成工作回答问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92240" y="4262400"/>
            <a:ext cx="103284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下班签到，解除定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2080" y="3500280"/>
            <a:ext cx="83844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2357280"/>
            <a:ext cx="83808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36800" y="1447920"/>
            <a:ext cx="172152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定义到位后的工作内容、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问卷：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7440" y="298764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完成工作回答问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9880" y="5943600"/>
            <a:ext cx="2230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手机上形成工作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5410080"/>
            <a:ext cx="4267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出题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设置工作内容、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明确到位后工作内容、步骤、流程、要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9440" y="5410080"/>
            <a:ext cx="2644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批卷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轨迹、考勤、工作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经理用手机或电脑审批现场记录，逐题打分，量化员工绩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3800" y="5943600"/>
            <a:ext cx="2596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奖惩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得分核算绩效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4876920"/>
            <a:ext cx="4568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答卷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员工辗转各点完成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完成一步就回答一个结果，并拍照存档。自动形成定位轨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26360" y="4191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完成工作回答问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400" y="3835440"/>
            <a:ext cx="1717560" cy="621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出题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卷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批卷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环环相扣，无人能偷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9880" y="3962520"/>
            <a:ext cx="235800" cy="49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播放动画、理解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3E07-FE82-439A-894D-FC7E520806E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1CE90E-9963-4AD6-AB41-F03185057A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23038 0.0831 L 0.55121 0.13148 L 0.67066 0.20741 L 0.71927 0.31296 L 0.74705 0.35741 E">
                                      <p:cBhvr>
                                        <p:cTn id="67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05 0.3574 L 0.7026 0.31481 L 0.62899 0.19814 L 0.55538 0.14073 L 0.41371 -0.01482 E">
                                      <p:cBhvr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72 -0.01482 L 0.39288 0.05 L 0.44149 0.14074 L 0.42344 0.18333 E">
                                      <p:cBhvr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344 0.18333 L 0.47066 0.3537 L 0.4526 0.38519 E">
                                      <p:cBhvr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签到上班、考勤管理</a:t>
            </a:r>
            <a:r>
              <a:rPr b="0" lang="zh-CN" sz="2800" spc="-1" strike="noStrike">
                <a:solidFill>
                  <a:srgbClr val="7889fb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68840" cy="43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2868840" cy="43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465000" y="5691240"/>
            <a:ext cx="2134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位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三要素：上下班、出差、查岗依据，审批生成考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注意：签到上班：开始定位，签到下班：解除定位，由员工自行掌握。不按时签到则以旷工、迟到或早退论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868840" cy="43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6400800" y="2514600"/>
            <a:ext cx="2219400" cy="711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如怀疑员工有代签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可随时发送查岗指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查岗指令也可以用电脑发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200400"/>
            <a:ext cx="1295280" cy="304920"/>
          </a:xfrm>
          <a:prstGeom prst="wedgeRectCallout">
            <a:avLst>
              <a:gd name="adj1" fmla="val -9314"/>
              <a:gd name="adj2" fmla="val -101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核对自己的位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343400"/>
            <a:ext cx="1143000" cy="304920"/>
          </a:xfrm>
          <a:prstGeom prst="wedgeRectCallout">
            <a:avLst>
              <a:gd name="adj1" fmla="val 10555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选择签到类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343400"/>
            <a:ext cx="838080" cy="304920"/>
          </a:xfrm>
          <a:prstGeom prst="wedgeRectCallout">
            <a:avLst>
              <a:gd name="adj1" fmla="val -58333"/>
              <a:gd name="adj2" fmla="val 25312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开始签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2666880" cy="685800"/>
          </a:xfrm>
          <a:prstGeom prst="wedgeRectCallout">
            <a:avLst>
              <a:gd name="adj1" fmla="val -4999"/>
              <a:gd name="adj2" fmla="val -7638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照片可选，用来确认人在具体位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般要求现场标志：如店面门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更为严厉：头像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现场标志，但要慎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2362320"/>
            <a:ext cx="2666880" cy="304560"/>
          </a:xfrm>
          <a:prstGeom prst="wedgeRectCallout">
            <a:avLst>
              <a:gd name="adj1" fmla="val -13097"/>
              <a:gd name="adj2" fmla="val -968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说明可选，汇报或说明签到时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495680"/>
            <a:ext cx="609840" cy="304920"/>
          </a:xfrm>
          <a:prstGeom prst="wedgeRectCallout">
            <a:avLst>
              <a:gd name="adj1" fmla="val -34375"/>
              <a:gd name="adj2" fmla="val 989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B3DF-8FF8-4894-98F3-10B1FC16C0F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EE1E554-42C9-4D19-8C01-ACAA4D1E1D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关于签到照片</a:t>
            </a:r>
            <a:r>
              <a:rPr b="0" lang="zh-CN" sz="2800" spc="-1" strike="noStrike">
                <a:solidFill>
                  <a:srgbClr val="7889fb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9680" y="1295280"/>
            <a:ext cx="878508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议：签到照片为现场标志，避免要求员工头像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代签的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查岗，不可过于频繁，参考您以前频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工作记录是否合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签到时的手机串号是否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轨迹是否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好的办法是“查岗”，有随机、突发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567A-781E-4804-AED9-2E3E99FB23D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8E9C2E-B8F1-4FFC-9F34-BBF0CC14AF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客户或网点管理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5673600"/>
            <a:ext cx="899136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拜访这个客户，就必须到达这里，否则，系统拒绝填报拜访记录（不允许答题），从而确保员工真正到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604880"/>
            <a:ext cx="8785440" cy="40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946160" y="1905120"/>
            <a:ext cx="15516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您在电脑上看到的客户、或其他网点分布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066680"/>
            <a:ext cx="853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将客户、网点标注在地图上，据此安排走访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5029200"/>
            <a:ext cx="8305920" cy="304920"/>
          </a:xfrm>
          <a:prstGeom prst="wedgeRectCallout">
            <a:avLst>
              <a:gd name="adj1" fmla="val -39680"/>
              <a:gd name="adj2" fmla="val -234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不同图标，不同数字、字母，表示不同类型、级别的客户：在“客户管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客户类别管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功能中自定义客户或网点分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048120"/>
            <a:ext cx="68580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DEC5-F0E4-4673-952D-3DBD6243FA2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EA978AF-9169-483E-A9FC-5F42A3B95D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311880" cy="28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客户或网点分布图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95280"/>
            <a:ext cx="853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动绘制出企业的客户（网点）分布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334120"/>
            <a:ext cx="1752840" cy="304560"/>
          </a:xfrm>
          <a:prstGeom prst="wedgeRectCallout">
            <a:avLst>
              <a:gd name="adj1" fmla="val 15217"/>
              <a:gd name="adj2" fmla="val -1739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这个位置，有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家客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5057-C2BC-4A68-BA8A-A922DBEF166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B8CCCE4-B84A-41E9-8551-5A6224168B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6:45:36Z</dcterms:created>
  <dc:creator>ttcrm</dc:creator>
  <dc:description/>
  <dc:language>en-US</dc:language>
  <cp:lastModifiedBy>微软用户</cp:lastModifiedBy>
  <dcterms:modified xsi:type="dcterms:W3CDTF">2018-04-11T06:21:24Z</dcterms:modified>
  <cp:revision>3291</cp:revision>
  <dc:subject/>
  <dc:title>ttcrm</dc:title>
</cp:coreProperties>
</file>