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9.jpeg" ContentType="image/jpeg"/>
  <Override PartName="/ppt/media/image15.png" ContentType="image/png"/>
  <Override PartName="/ppt/media/image14.png" ContentType="image/png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13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dt" idx="1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ftr" idx="1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 type="sldNum" idx="1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61CF9-42B6-4CD5-8572-49B402E9B11A}" type="slidenum">
              <a:rPr b="0" lang="zh-CN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4D770-2521-4D8B-9547-C1FB2EF34E34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67320" cy="342612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B6E13-3594-404F-994F-83F42DE92457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86473-2CEB-4253-8EBE-7F679214A292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5D31B-A4CB-48CC-9034-54210DFA5D7F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C02E0-DFBB-49D2-8C57-68718F061178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53AC2-E21D-45F3-B07B-81118B635569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F459E-2A4B-410A-A659-5AB7B5D67AB9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57309-253D-42C4-A61C-DE0EFF8195F5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FF3A8-DBFB-4343-98D8-0B89D188DD31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9A406-3A7B-4A3F-9063-7454AC98415C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D448A-DD8B-47E0-9F72-87306E9D7282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BDE43-08DD-485E-A422-216A1B85A0E6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A6E07-909B-4041-AE2B-0B8B266890D2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40149-47A5-4DF4-BFD0-5B1BA195BBE7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53903-5A39-48E3-9272-B82839858872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678A4-91D1-4E9C-80A2-F7FC74FC1143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F195D-527B-46E3-BC42-0317A64B9FF3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3970E-8514-4C45-B68C-ECF74C0F2C46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E3957-E88E-4150-956F-715E5EC6E9DB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8CF8A-5F59-4050-96A3-0306E7AC7021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AB59E-E0B3-46AA-A555-6731405CFA0A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91320-0CD4-4C38-B915-FCD916E3E991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AF8E8-1527-4A7C-9965-D9547E49E005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B338A-8CF3-4252-9A7E-F153F9618792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C4724-96CA-4BB3-A85A-F8BA65EF8E4A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EF669-4F29-4659-AF15-98DB3CAB7D80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67320" cy="342612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13747-A586-464E-8B0E-F4F67572A039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3A713-7E0D-4127-BB05-4F6854D99AA8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8C251-E811-4884-90F2-71269DFAD94D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CF005-D66B-4410-9956-6086319C1845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F2400-0B26-4DC9-92D1-29BF51A5C1E4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7F618-9BE9-47F4-A186-76F84DDE5161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7A576B-2563-4A1B-BC46-8D4C6FB1F2C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BFEADE-524F-4713-A5BE-3103A6769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D850CE-26A4-47B2-8DF8-630FD04C9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E041A0-B887-4B93-9D64-1C14BFE5352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4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4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4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D98165-EC47-4B41-BB25-8299B893E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430149-D20A-4152-9C0D-B2897162117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4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585899-E786-4E95-BB6E-3A8B4A977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8ED9C0-8E27-4117-B06D-04275A25B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FA8D12-FC62-4A5C-A637-220A99470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F4AEEF-E8CB-4CF9-A780-0B53921E6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848544-562A-44AB-AD74-6CDFC4B54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4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50C553-786F-4614-BE88-2EFDFA22C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6C6A06-882E-402A-AE79-BF92A42F8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541A06-8B6C-4E7E-9F30-A0FD6CCBE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02F102-86F0-40FD-8E2B-EAA7CBC9B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F6E755-8288-4EDA-B595-BF53EA108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676960-C524-48DB-BC6D-D83131E02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EC8812-650F-41BA-A2DE-15964340693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186D9-943B-46AD-B2DF-B12C7235596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4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4AAF6-D776-4FDA-BAEC-EB5006AA6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BE5CA-066E-4940-8566-84B2F6E4F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B8F585-7EAF-403A-9B58-E7787944E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EE444-E107-4112-8D14-1B62A9EF4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6EBB8-3B91-40CD-8378-9187C0681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4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1F166-E7DF-42B1-B917-45D9F75C8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E28D0-6022-4CE6-8665-C28741E60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7AEDE-C0F9-41A4-BEDC-770F084BA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78E5A-F265-45B8-8ED2-68100497A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DBC5D-5E4F-424E-9D32-44D4B3C56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6F34E-6094-4B6B-97E7-7F51AF85E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1B9E9-E328-4A15-A699-ED35C6920FA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8F20108-B465-4CBE-ADB5-07BAE1BA3EF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4D73AD-BFB2-4F39-B0D8-0ECA6FE33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4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D5AE9FC-F6E5-4A36-B441-6F6E7524D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F65AD32-E62B-40D9-9AAE-1CB2CD2DD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3F39CB5-15A0-4EAC-BD7F-0D2C04B8B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7B0E263-7A26-48FC-A3EF-FD4846888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4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6321B96-BB04-4BF7-99A5-AC52E9AE1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AB6DEFC-0F13-4F4F-BFF7-E652A4BD7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3E8BAB4-ED16-4C77-A5E9-CE94D5807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19384CF-F82D-41ED-AD4C-7E52BD7D7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3EE10F9-C968-4DD1-99FD-D3228278A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30FB4B4-252A-494A-AC1D-C496FB2AC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4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09F992-8790-44E4-B7CB-7084E3B87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6B91D83-3433-4989-B3BB-64B7B2B24B7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1E6A566-5FD8-4F2F-99AF-06384355194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4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54A157B-47A6-419E-A904-D476F3CBF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8C871DA-CB91-440C-8722-04778FB0E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9A9808C-B572-4B6A-8C53-FC736726E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ACB8094-C984-4766-BE0E-CD7240B5A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4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4DA09EE-CF73-4B6F-ADA2-46DE25342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E945E7D-1284-4760-A8D7-7725DBD6B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967233B-66CE-47E5-A8E2-380CC616F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911A02F-D5BB-4357-8B2A-3555A587B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065FAE-B74A-439E-90E5-BCA6E63F6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FB99174-B837-475F-B65D-874F674B8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E48545A-128A-442B-B765-158260245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8A19DC7-C828-4383-B53A-BAD95F23E4D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4D55E9-FB03-4B95-ACF9-0C5C879378E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4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F700E3-53FF-4D94-8B67-BB4A677C2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D2784C-5065-4596-9B28-4678F43E2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B6A59A-E1A7-42D8-863D-57357B82B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6FD6A4-3449-4AC0-BEE0-D20A4961E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4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88B315-13F6-45B2-8780-9034D670F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F62B2C-4D8D-417C-9BE6-EEDDE8963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E97C31-4A9C-4046-B92D-7951F53D3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265775-02D9-4A6F-8119-4ED924BBF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41B3CE-5D83-439B-8517-F3775C6E1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81CF92-C11E-4634-9AD3-6BC1C2FA2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94FD5C-7019-4DC7-A471-2557CB422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9E15FC-1EE3-465A-8ADD-A2CDFCB2691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4EAAB0-8CBE-432C-A425-48353A074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4"/>
          <p:cNvSpPr/>
          <p:nvPr/>
        </p:nvSpPr>
        <p:spPr>
          <a:xfrm>
            <a:off x="0" y="0"/>
            <a:ext cx="9140760" cy="99072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" name="Rectangle 25"/>
          <p:cNvSpPr/>
          <p:nvPr/>
        </p:nvSpPr>
        <p:spPr>
          <a:xfrm>
            <a:off x="0" y="6473880"/>
            <a:ext cx="9140760" cy="38412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" name="Text Box 8"/>
          <p:cNvSpPr/>
          <p:nvPr/>
        </p:nvSpPr>
        <p:spPr>
          <a:xfrm>
            <a:off x="989280" y="52560"/>
            <a:ext cx="178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TCRM Corporation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Rectangle 9"/>
          <p:cNvSpPr/>
          <p:nvPr/>
        </p:nvSpPr>
        <p:spPr>
          <a:xfrm>
            <a:off x="5724360" y="6499080"/>
            <a:ext cx="3306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© 2010 TTCRM Corporation</a:t>
            </a:r>
            <a:endParaRPr b="0" lang="en-US" sz="1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sldNum" idx="1"/>
          </p:nvPr>
        </p:nvSpPr>
        <p:spPr>
          <a:xfrm>
            <a:off x="77400" y="6477120"/>
            <a:ext cx="525636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1E304-8AD8-4463-AE9A-6E290AFABD30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终端通（北京）有限公司 版权所有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400-8610-87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2"/>
          </p:nvPr>
        </p:nvSpPr>
        <p:spPr>
          <a:xfrm>
            <a:off x="5455800" y="6500520"/>
            <a:ext cx="194652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4E0A0-9A66-437E-9F57-F2158732580F}" type="datetime">
              <a:rPr b="0" lang="zh-CN" sz="1000" spc="-1" strike="noStrike">
                <a:solidFill>
                  <a:srgbClr val="ffffff"/>
                </a:solidFill>
                <a:latin typeface="Arial"/>
              </a:rPr>
              <a:t>26/7/31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Line 16"/>
          <p:cNvSpPr/>
          <p:nvPr/>
        </p:nvSpPr>
        <p:spPr>
          <a:xfrm>
            <a:off x="990720" y="147600"/>
            <a:ext cx="0" cy="235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Line 17"/>
          <p:cNvSpPr/>
          <p:nvPr/>
        </p:nvSpPr>
        <p:spPr>
          <a:xfrm>
            <a:off x="990720" y="647064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" name="Line 34"/>
          <p:cNvSpPr/>
          <p:nvPr/>
        </p:nvSpPr>
        <p:spPr>
          <a:xfrm>
            <a:off x="0" y="380880"/>
            <a:ext cx="9144000" cy="0"/>
          </a:xfrm>
          <a:prstGeom prst="line">
            <a:avLst/>
          </a:prstGeom>
          <a:ln w="12600">
            <a:solidFill>
              <a:srgbClr val="adb7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9" name="Picture 32" descr="zdt_biao"/>
          <p:cNvPicPr/>
          <p:nvPr/>
        </p:nvPicPr>
        <p:blipFill>
          <a:blip r:embed="rId2"/>
          <a:stretch/>
        </p:blipFill>
        <p:spPr>
          <a:xfrm>
            <a:off x="8153280" y="0"/>
            <a:ext cx="990720" cy="379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19"/>
          <p:cNvSpPr/>
          <p:nvPr/>
        </p:nvSpPr>
        <p:spPr>
          <a:xfrm>
            <a:off x="0" y="0"/>
            <a:ext cx="9140760" cy="169236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7" name="Rectangle 20"/>
          <p:cNvSpPr/>
          <p:nvPr/>
        </p:nvSpPr>
        <p:spPr>
          <a:xfrm>
            <a:off x="0" y="5165640"/>
            <a:ext cx="9140760" cy="169236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8" name="Rectangle 10"/>
          <p:cNvSpPr/>
          <p:nvPr/>
        </p:nvSpPr>
        <p:spPr>
          <a:xfrm>
            <a:off x="1752480" y="132732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TCRM Corporation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9" name="Line 16"/>
          <p:cNvSpPr/>
          <p:nvPr/>
        </p:nvSpPr>
        <p:spPr>
          <a:xfrm flipV="1">
            <a:off x="1863720" y="4217760"/>
            <a:ext cx="0" cy="9334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0" name="Line 17"/>
          <p:cNvSpPr/>
          <p:nvPr/>
        </p:nvSpPr>
        <p:spPr>
          <a:xfrm flipV="1">
            <a:off x="1600200" y="1362240"/>
            <a:ext cx="0" cy="3283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1" name="Rectangle 18"/>
          <p:cNvSpPr/>
          <p:nvPr/>
        </p:nvSpPr>
        <p:spPr>
          <a:xfrm>
            <a:off x="6781680" y="6248520"/>
            <a:ext cx="2362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adb7fd"/>
                </a:solidFill>
                <a:latin typeface="Arial"/>
              </a:rPr>
              <a:t>© 2010 TTCRM Corporation</a:t>
            </a:r>
            <a:endParaRPr b="0" lang="en-US" sz="13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52" name="Picture 23" descr="TEXTUR~21"/>
          <p:cNvPicPr/>
          <p:nvPr/>
        </p:nvPicPr>
        <p:blipFill>
          <a:blip r:embed="rId2"/>
          <a:stretch/>
        </p:blipFill>
        <p:spPr>
          <a:xfrm>
            <a:off x="0" y="1676520"/>
            <a:ext cx="9144000" cy="347508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24"/>
          <p:cNvSpPr/>
          <p:nvPr/>
        </p:nvSpPr>
        <p:spPr>
          <a:xfrm>
            <a:off x="0" y="51814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adb7fd"/>
                </a:solidFill>
                <a:latin typeface="宋体"/>
              </a:rPr>
              <a:t>终端通（北京）有限公司 </a:t>
            </a:r>
            <a:r>
              <a:rPr b="0" lang="en-US" sz="1600" spc="-1" strike="noStrike">
                <a:solidFill>
                  <a:srgbClr val="adb7fd"/>
                </a:solidFill>
                <a:latin typeface="宋体"/>
              </a:rPr>
              <a:t>400-8610-878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dt" idx="3"/>
          </p:nvPr>
        </p:nvSpPr>
        <p:spPr>
          <a:xfrm>
            <a:off x="4724280" y="6248520"/>
            <a:ext cx="1619280" cy="3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300" spc="-1" strike="noStrike">
                <a:solidFill>
                  <a:srgbClr val="adb7fd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05935-C71B-4B95-9C89-572558E512A3}" type="datetime">
              <a:rPr b="0" lang="zh-CN" sz="1300" spc="-1" strike="noStrike">
                <a:solidFill>
                  <a:srgbClr val="adb7fd"/>
                </a:solidFill>
                <a:latin typeface="Arial"/>
              </a:rPr>
              <a:t>26/7/31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spcBef>
                <a:spcPts val="1049"/>
              </a:spcBef>
              <a:spcAft>
                <a:spcPts val="451"/>
              </a:spcAft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7160">
              <a:spcBef>
                <a:spcPts val="275"/>
              </a:spcBef>
              <a:spcAft>
                <a:spcPts val="139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82560" indent="-223920">
              <a:spcBef>
                <a:spcPts val="499"/>
              </a:spcBef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12960" indent="-228600">
              <a:spcBef>
                <a:spcPts val="451"/>
              </a:spcBef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143000" indent="-228600">
              <a:spcBef>
                <a:spcPts val="451"/>
              </a:spcBef>
              <a:buClr>
                <a:srgbClr val="2db6b3"/>
              </a:buClr>
              <a:buFont typeface="Arial"/>
              <a:buChar char="&gt;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24"/>
          <p:cNvSpPr/>
          <p:nvPr/>
        </p:nvSpPr>
        <p:spPr>
          <a:xfrm>
            <a:off x="0" y="0"/>
            <a:ext cx="9140760" cy="99072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4" name="Rectangle 25"/>
          <p:cNvSpPr/>
          <p:nvPr/>
        </p:nvSpPr>
        <p:spPr>
          <a:xfrm>
            <a:off x="0" y="6473880"/>
            <a:ext cx="9140760" cy="38412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5" name="Text Box 8"/>
          <p:cNvSpPr/>
          <p:nvPr/>
        </p:nvSpPr>
        <p:spPr>
          <a:xfrm>
            <a:off x="989280" y="52560"/>
            <a:ext cx="178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TCRM Corporation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6" name="Rectangle 9"/>
          <p:cNvSpPr/>
          <p:nvPr/>
        </p:nvSpPr>
        <p:spPr>
          <a:xfrm>
            <a:off x="5724360" y="6499080"/>
            <a:ext cx="3306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© 2010 TTCRM Corporation</a:t>
            </a:r>
            <a:endParaRPr b="0" lang="en-US" sz="1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7" name="Line 16"/>
          <p:cNvSpPr/>
          <p:nvPr/>
        </p:nvSpPr>
        <p:spPr>
          <a:xfrm>
            <a:off x="990720" y="147600"/>
            <a:ext cx="0" cy="235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8" name="Line 17"/>
          <p:cNvSpPr/>
          <p:nvPr/>
        </p:nvSpPr>
        <p:spPr>
          <a:xfrm>
            <a:off x="990720" y="647064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9" name="Line 34"/>
          <p:cNvSpPr/>
          <p:nvPr/>
        </p:nvSpPr>
        <p:spPr>
          <a:xfrm>
            <a:off x="0" y="380880"/>
            <a:ext cx="9144000" cy="0"/>
          </a:xfrm>
          <a:prstGeom prst="line">
            <a:avLst/>
          </a:prstGeom>
          <a:ln w="12600">
            <a:solidFill>
              <a:srgbClr val="adb7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100" name="Picture 32" descr="zdt_biao"/>
          <p:cNvPicPr/>
          <p:nvPr/>
        </p:nvPicPr>
        <p:blipFill>
          <a:blip r:embed="rId2"/>
          <a:stretch/>
        </p:blipFill>
        <p:spPr>
          <a:xfrm>
            <a:off x="8153280" y="0"/>
            <a:ext cx="990720" cy="37944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sldNum" idx="4"/>
          </p:nvPr>
        </p:nvSpPr>
        <p:spPr>
          <a:xfrm>
            <a:off x="77400" y="6477120"/>
            <a:ext cx="525636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BAD02-AA30-4A62-A5D5-871858E6F9AE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终端通（北京）有限公司 版权所有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400-8610-87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5"/>
          </p:nvPr>
        </p:nvSpPr>
        <p:spPr>
          <a:xfrm>
            <a:off x="5455800" y="6500520"/>
            <a:ext cx="194652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3CE3B-3776-43E2-A427-2085C8B29959}" type="datetime">
              <a:rPr b="0" lang="zh-CN" sz="1000" spc="-1" strike="noStrike">
                <a:solidFill>
                  <a:srgbClr val="ffffff"/>
                </a:solidFill>
                <a:latin typeface="Arial"/>
              </a:rPr>
              <a:t>26/7/31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24"/>
          <p:cNvSpPr/>
          <p:nvPr/>
        </p:nvSpPr>
        <p:spPr>
          <a:xfrm>
            <a:off x="0" y="0"/>
            <a:ext cx="9140760" cy="99072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0" name="Rectangle 25"/>
          <p:cNvSpPr/>
          <p:nvPr/>
        </p:nvSpPr>
        <p:spPr>
          <a:xfrm>
            <a:off x="0" y="6473880"/>
            <a:ext cx="9140760" cy="38412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1" name="Text Box 8"/>
          <p:cNvSpPr/>
          <p:nvPr/>
        </p:nvSpPr>
        <p:spPr>
          <a:xfrm>
            <a:off x="989280" y="52560"/>
            <a:ext cx="178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TCRM Corporation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2" name="Rectangle 9"/>
          <p:cNvSpPr/>
          <p:nvPr/>
        </p:nvSpPr>
        <p:spPr>
          <a:xfrm>
            <a:off x="5724360" y="6499080"/>
            <a:ext cx="3306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© 2010 TTCRM Corporation</a:t>
            </a:r>
            <a:endParaRPr b="0" lang="en-US" sz="1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3" name="Line 16"/>
          <p:cNvSpPr/>
          <p:nvPr/>
        </p:nvSpPr>
        <p:spPr>
          <a:xfrm>
            <a:off x="990720" y="147600"/>
            <a:ext cx="0" cy="235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4" name="Line 17"/>
          <p:cNvSpPr/>
          <p:nvPr/>
        </p:nvSpPr>
        <p:spPr>
          <a:xfrm>
            <a:off x="990720" y="647064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5" name="Line 34"/>
          <p:cNvSpPr/>
          <p:nvPr/>
        </p:nvSpPr>
        <p:spPr>
          <a:xfrm>
            <a:off x="0" y="380880"/>
            <a:ext cx="9144000" cy="0"/>
          </a:xfrm>
          <a:prstGeom prst="line">
            <a:avLst/>
          </a:prstGeom>
          <a:ln w="12600">
            <a:solidFill>
              <a:srgbClr val="adb7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146" name="Picture 32" descr="zdt_biao"/>
          <p:cNvPicPr/>
          <p:nvPr/>
        </p:nvPicPr>
        <p:blipFill>
          <a:blip r:embed="rId2"/>
          <a:stretch/>
        </p:blipFill>
        <p:spPr>
          <a:xfrm>
            <a:off x="8153280" y="0"/>
            <a:ext cx="990720" cy="37944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sldNum" idx="6"/>
          </p:nvPr>
        </p:nvSpPr>
        <p:spPr>
          <a:xfrm>
            <a:off x="77400" y="6477120"/>
            <a:ext cx="525636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4CE74-0964-47F1-9284-C9B00104F0D7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终端通（北京）有限公司 版权所有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400-8610-87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dt" idx="7"/>
          </p:nvPr>
        </p:nvSpPr>
        <p:spPr>
          <a:xfrm>
            <a:off x="5455800" y="6500520"/>
            <a:ext cx="194652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CBD45-FCEA-45BE-A481-468765A9CC19}" type="datetime">
              <a:rPr b="0" lang="zh-CN" sz="1000" spc="-1" strike="noStrike">
                <a:solidFill>
                  <a:srgbClr val="ffffff"/>
                </a:solidFill>
                <a:latin typeface="Arial"/>
              </a:rPr>
              <a:t>26/7/31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24"/>
          <p:cNvSpPr/>
          <p:nvPr/>
        </p:nvSpPr>
        <p:spPr>
          <a:xfrm>
            <a:off x="0" y="0"/>
            <a:ext cx="9140760" cy="99072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6" name="Rectangle 25"/>
          <p:cNvSpPr/>
          <p:nvPr/>
        </p:nvSpPr>
        <p:spPr>
          <a:xfrm>
            <a:off x="0" y="6473880"/>
            <a:ext cx="9140760" cy="38412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7" name="Text Box 8"/>
          <p:cNvSpPr/>
          <p:nvPr/>
        </p:nvSpPr>
        <p:spPr>
          <a:xfrm>
            <a:off x="989280" y="52560"/>
            <a:ext cx="178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TCRM Corporation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8" name="Rectangle 9"/>
          <p:cNvSpPr/>
          <p:nvPr/>
        </p:nvSpPr>
        <p:spPr>
          <a:xfrm>
            <a:off x="5724360" y="6499080"/>
            <a:ext cx="3306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© 2010 TTCRM Corporation</a:t>
            </a:r>
            <a:endParaRPr b="0" lang="en-US" sz="1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9" name="Line 16"/>
          <p:cNvSpPr/>
          <p:nvPr/>
        </p:nvSpPr>
        <p:spPr>
          <a:xfrm>
            <a:off x="990720" y="147600"/>
            <a:ext cx="0" cy="235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0" name="Line 17"/>
          <p:cNvSpPr/>
          <p:nvPr/>
        </p:nvSpPr>
        <p:spPr>
          <a:xfrm>
            <a:off x="990720" y="647064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1" name="Line 34"/>
          <p:cNvSpPr/>
          <p:nvPr/>
        </p:nvSpPr>
        <p:spPr>
          <a:xfrm>
            <a:off x="0" y="380880"/>
            <a:ext cx="9144000" cy="0"/>
          </a:xfrm>
          <a:prstGeom prst="line">
            <a:avLst/>
          </a:prstGeom>
          <a:ln w="12600">
            <a:solidFill>
              <a:srgbClr val="adb7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192" name="Picture 32" descr="zdt_biao"/>
          <p:cNvPicPr/>
          <p:nvPr/>
        </p:nvPicPr>
        <p:blipFill>
          <a:blip r:embed="rId2"/>
          <a:stretch/>
        </p:blipFill>
        <p:spPr>
          <a:xfrm>
            <a:off x="8153280" y="0"/>
            <a:ext cx="990720" cy="379440"/>
          </a:xfrm>
          <a:prstGeom prst="rect">
            <a:avLst/>
          </a:prstGeom>
          <a:ln w="0">
            <a:noFill/>
          </a:ln>
        </p:spPr>
      </p:pic>
      <p:sp>
        <p:nvSpPr>
          <p:cNvPr id="193" name="PlaceHolder 1"/>
          <p:cNvSpPr>
            <a:spLocks noGrp="1"/>
          </p:cNvSpPr>
          <p:nvPr>
            <p:ph type="sldNum" idx="8"/>
          </p:nvPr>
        </p:nvSpPr>
        <p:spPr>
          <a:xfrm>
            <a:off x="77400" y="6477120"/>
            <a:ext cx="525636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DBF97-F6EB-4C11-AD50-5D42ECE7B6FA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终端通（北京）有限公司 版权所有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400-8610-87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dt" idx="9"/>
          </p:nvPr>
        </p:nvSpPr>
        <p:spPr>
          <a:xfrm>
            <a:off x="5455800" y="6500520"/>
            <a:ext cx="194652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18250-A772-4215-894D-D64D5860A6FF}" type="datetime">
              <a:rPr b="0" lang="zh-CN" sz="1000" spc="-1" strike="noStrike">
                <a:solidFill>
                  <a:srgbClr val="ffffff"/>
                </a:solidFill>
                <a:latin typeface="Arial"/>
              </a:rPr>
              <a:t>26/7/31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24"/>
          <p:cNvSpPr/>
          <p:nvPr/>
        </p:nvSpPr>
        <p:spPr>
          <a:xfrm>
            <a:off x="0" y="0"/>
            <a:ext cx="9140760" cy="99072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32" name="Rectangle 25"/>
          <p:cNvSpPr/>
          <p:nvPr/>
        </p:nvSpPr>
        <p:spPr>
          <a:xfrm>
            <a:off x="0" y="6473880"/>
            <a:ext cx="9140760" cy="38412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33" name="Text Box 8"/>
          <p:cNvSpPr/>
          <p:nvPr/>
        </p:nvSpPr>
        <p:spPr>
          <a:xfrm>
            <a:off x="989280" y="52560"/>
            <a:ext cx="178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TCRM Corporation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34" name="Rectangle 9"/>
          <p:cNvSpPr/>
          <p:nvPr/>
        </p:nvSpPr>
        <p:spPr>
          <a:xfrm>
            <a:off x="5724360" y="6499080"/>
            <a:ext cx="3306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© 2010 TTCRM Corporation</a:t>
            </a:r>
            <a:endParaRPr b="0" lang="en-US" sz="1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35" name="Line 16"/>
          <p:cNvSpPr/>
          <p:nvPr/>
        </p:nvSpPr>
        <p:spPr>
          <a:xfrm>
            <a:off x="990720" y="147600"/>
            <a:ext cx="0" cy="235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36" name="Line 17"/>
          <p:cNvSpPr/>
          <p:nvPr/>
        </p:nvSpPr>
        <p:spPr>
          <a:xfrm>
            <a:off x="990720" y="647064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37" name="Line 34"/>
          <p:cNvSpPr/>
          <p:nvPr/>
        </p:nvSpPr>
        <p:spPr>
          <a:xfrm>
            <a:off x="0" y="380880"/>
            <a:ext cx="9144000" cy="0"/>
          </a:xfrm>
          <a:prstGeom prst="line">
            <a:avLst/>
          </a:prstGeom>
          <a:ln w="12600">
            <a:solidFill>
              <a:srgbClr val="adb7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238" name="Picture 32" descr="zdt_biao"/>
          <p:cNvPicPr/>
          <p:nvPr/>
        </p:nvPicPr>
        <p:blipFill>
          <a:blip r:embed="rId2"/>
          <a:stretch/>
        </p:blipFill>
        <p:spPr>
          <a:xfrm>
            <a:off x="8153280" y="0"/>
            <a:ext cx="990720" cy="3794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sldNum" idx="10"/>
          </p:nvPr>
        </p:nvSpPr>
        <p:spPr>
          <a:xfrm>
            <a:off x="77400" y="6477120"/>
            <a:ext cx="525636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D0C15-F81F-475E-BAF1-EDDBBDE965EE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终端通（北京）有限公司 版权所有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400-8610-87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dt" idx="11"/>
          </p:nvPr>
        </p:nvSpPr>
        <p:spPr>
          <a:xfrm>
            <a:off x="5455800" y="6500520"/>
            <a:ext cx="194652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8A285-3393-4E97-B294-7B5EE7B3A6CC}" type="datetime">
              <a:rPr b="0" lang="zh-CN" sz="1000" spc="-1" strike="noStrike">
                <a:solidFill>
                  <a:srgbClr val="ffffff"/>
                </a:solidFill>
                <a:latin typeface="Arial"/>
              </a:rPr>
              <a:t>26/7/31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24"/>
          <p:cNvSpPr/>
          <p:nvPr/>
        </p:nvSpPr>
        <p:spPr>
          <a:xfrm>
            <a:off x="0" y="0"/>
            <a:ext cx="9140760" cy="99072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78" name="Rectangle 25"/>
          <p:cNvSpPr/>
          <p:nvPr/>
        </p:nvSpPr>
        <p:spPr>
          <a:xfrm>
            <a:off x="0" y="6473880"/>
            <a:ext cx="9140760" cy="38412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79" name="Text Box 8"/>
          <p:cNvSpPr/>
          <p:nvPr/>
        </p:nvSpPr>
        <p:spPr>
          <a:xfrm>
            <a:off x="989280" y="52560"/>
            <a:ext cx="178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TCRM Corporation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0" name="Rectangle 9"/>
          <p:cNvSpPr/>
          <p:nvPr/>
        </p:nvSpPr>
        <p:spPr>
          <a:xfrm>
            <a:off x="5724360" y="6499080"/>
            <a:ext cx="3306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© 2010 TTCRM Corporation</a:t>
            </a:r>
            <a:endParaRPr b="0" lang="en-US" sz="1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1" name="Line 16"/>
          <p:cNvSpPr/>
          <p:nvPr/>
        </p:nvSpPr>
        <p:spPr>
          <a:xfrm>
            <a:off x="990720" y="147600"/>
            <a:ext cx="0" cy="235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2" name="Line 17"/>
          <p:cNvSpPr/>
          <p:nvPr/>
        </p:nvSpPr>
        <p:spPr>
          <a:xfrm>
            <a:off x="990720" y="647064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3" name="Line 34"/>
          <p:cNvSpPr/>
          <p:nvPr/>
        </p:nvSpPr>
        <p:spPr>
          <a:xfrm>
            <a:off x="0" y="380880"/>
            <a:ext cx="9144000" cy="0"/>
          </a:xfrm>
          <a:prstGeom prst="line">
            <a:avLst/>
          </a:prstGeom>
          <a:ln w="12600">
            <a:solidFill>
              <a:srgbClr val="adb7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284" name="Picture 32" descr="zdt_biao"/>
          <p:cNvPicPr/>
          <p:nvPr/>
        </p:nvPicPr>
        <p:blipFill>
          <a:blip r:embed="rId2"/>
          <a:stretch/>
        </p:blipFill>
        <p:spPr>
          <a:xfrm>
            <a:off x="8153280" y="0"/>
            <a:ext cx="990720" cy="37944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sldNum" idx="12"/>
          </p:nvPr>
        </p:nvSpPr>
        <p:spPr>
          <a:xfrm>
            <a:off x="77400" y="6477120"/>
            <a:ext cx="525636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26A37-3278-49CA-B39D-B16006E03A68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终端通（北京）有限公司 版权所有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400-8610-87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dt" idx="13"/>
          </p:nvPr>
        </p:nvSpPr>
        <p:spPr>
          <a:xfrm>
            <a:off x="5455800" y="6500520"/>
            <a:ext cx="194652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2FFD5-FE49-43DF-9B72-EC57C2AAEE83}" type="datetime">
              <a:rPr b="0" lang="zh-CN" sz="1000" spc="-1" strike="noStrike">
                <a:solidFill>
                  <a:srgbClr val="ffffff"/>
                </a:solidFill>
                <a:latin typeface="Arial"/>
              </a:rPr>
              <a:t>26/7/31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15"/>
          <p:cNvSpPr/>
          <p:nvPr/>
        </p:nvSpPr>
        <p:spPr>
          <a:xfrm>
            <a:off x="4724280" y="6248520"/>
            <a:ext cx="161928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DBE99-9662-44EC-8FCF-6A477FDD8362}" type="datetime">
              <a:rPr b="0" lang="zh-CN" sz="1300" spc="-1" strike="noStrike">
                <a:solidFill>
                  <a:srgbClr val="adb7fd"/>
                </a:solidFill>
                <a:latin typeface="Arial"/>
              </a:rPr>
              <a:t>26/7/31</a:t>
            </a:fld>
            <a:endParaRPr b="0" lang="en-US" sz="13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31" name="Rectangle 6"/>
          <p:cNvSpPr/>
          <p:nvPr/>
        </p:nvSpPr>
        <p:spPr>
          <a:xfrm>
            <a:off x="0" y="4403880"/>
            <a:ext cx="899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定位管理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黑体"/>
              </a:rPr>
              <a:t>app</a:t>
            </a:r>
            <a:endParaRPr b="0" lang="en-US" sz="4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32" name="Rectangle 11"/>
          <p:cNvSpPr/>
          <p:nvPr/>
        </p:nvSpPr>
        <p:spPr>
          <a:xfrm>
            <a:off x="0" y="2952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33" name="Text Box 14"/>
          <p:cNvSpPr/>
          <p:nvPr/>
        </p:nvSpPr>
        <p:spPr>
          <a:xfrm>
            <a:off x="0" y="6461280"/>
            <a:ext cx="4114800" cy="39888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版权所有，侵权必究！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334" name="图片 1" descr=""/>
          <p:cNvPicPr/>
          <p:nvPr/>
        </p:nvPicPr>
        <p:blipFill>
          <a:blip r:embed="rId1"/>
          <a:stretch/>
        </p:blipFill>
        <p:spPr>
          <a:xfrm>
            <a:off x="152280" y="1752480"/>
            <a:ext cx="3524400" cy="134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灯片编号占位符 3"/>
          <p:cNvSpPr/>
          <p:nvPr/>
        </p:nvSpPr>
        <p:spPr>
          <a:xfrm>
            <a:off x="77760" y="6477120"/>
            <a:ext cx="52563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21495-D186-44EB-AD01-1A84D9894181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终端通（北京）有限公司 版权所有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400-8610-878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5" name="日期占位符 4"/>
          <p:cNvSpPr/>
          <p:nvPr/>
        </p:nvSpPr>
        <p:spPr>
          <a:xfrm>
            <a:off x="5456160" y="6500880"/>
            <a:ext cx="194652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20155-8F03-494D-AFA6-61845C947121}" type="datetime">
              <a:rPr b="0" lang="zh-CN" sz="1000" spc="-1" strike="noStrike">
                <a:solidFill>
                  <a:srgbClr val="ffffff"/>
                </a:solidFill>
                <a:latin typeface="Arial"/>
              </a:rPr>
              <a:t>26/7/31</a:t>
            </a:fld>
            <a:endParaRPr b="0" lang="en-US" sz="1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6" name="Text Box 3"/>
          <p:cNvSpPr/>
          <p:nvPr/>
        </p:nvSpPr>
        <p:spPr>
          <a:xfrm>
            <a:off x="254160" y="2438280"/>
            <a:ext cx="8610480" cy="98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普及版简介</a:t>
            </a:r>
            <a:endParaRPr b="0" lang="en-US" sz="6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7" name="矩形 1"/>
          <p:cNvSpPr/>
          <p:nvPr/>
        </p:nvSpPr>
        <p:spPr>
          <a:xfrm>
            <a:off x="457200" y="403848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普及版包含定位版全部功能，在定位版的基础上，增加了日报管理、审批管理两个部分。如果除了定位考勤，还需要员工用手机提交工作日报、填写审批单，就选择普及版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灯片编号占位符 3"/>
          <p:cNvSpPr/>
          <p:nvPr/>
        </p:nvSpPr>
        <p:spPr>
          <a:xfrm>
            <a:off x="77760" y="6477120"/>
            <a:ext cx="52563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5F377-E656-4066-8801-EA972313FCD3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终端通（北京）有限公司 版权所有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400-8610-878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9" name="日期占位符 4"/>
          <p:cNvSpPr/>
          <p:nvPr/>
        </p:nvSpPr>
        <p:spPr>
          <a:xfrm>
            <a:off x="5456160" y="6500880"/>
            <a:ext cx="194652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618DC-755E-4F1E-B8C5-D445C69B9813}" type="datetime">
              <a:rPr b="0" lang="zh-CN" sz="1000" spc="-1" strike="noStrike">
                <a:solidFill>
                  <a:srgbClr val="ffffff"/>
                </a:solidFill>
                <a:latin typeface="Arial"/>
              </a:rPr>
              <a:t>26/7/31</a:t>
            </a:fld>
            <a:endParaRPr b="0" lang="en-US" sz="1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76320" y="304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黑体"/>
              </a:rPr>
              <a:t>普及版增加功能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81" name="矩形 1"/>
          <p:cNvSpPr/>
          <p:nvPr/>
        </p:nvSpPr>
        <p:spPr>
          <a:xfrm>
            <a:off x="380880" y="2185920"/>
            <a:ext cx="83822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●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工作日报：自定义日报格式、员工手机填写，经理用手机或电脑审批，以及相关的统计等功能。</a:t>
            </a: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●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审批管理：将当前实行的审批单导入系统（如费用审批单、出差审批单等），员工用手机填写，经理用手机或电脑审批。</a:t>
            </a: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灯片编号占位符 3"/>
          <p:cNvSpPr/>
          <p:nvPr/>
        </p:nvSpPr>
        <p:spPr>
          <a:xfrm>
            <a:off x="77760" y="6477120"/>
            <a:ext cx="52563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BC2FC-DE6F-4CCA-9BD1-D327B8E4E70D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终端通（北京）有限公司 版权所有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400-8610-878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83" name="日期占位符 4"/>
          <p:cNvSpPr/>
          <p:nvPr/>
        </p:nvSpPr>
        <p:spPr>
          <a:xfrm>
            <a:off x="5456160" y="6500880"/>
            <a:ext cx="194652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669A6-5DB9-4BE1-AF4C-7D79672DFDAB}" type="datetime">
              <a:rPr b="0" lang="zh-CN" sz="1000" spc="-1" strike="noStrike">
                <a:solidFill>
                  <a:srgbClr val="ffffff"/>
                </a:solidFill>
                <a:latin typeface="Arial"/>
              </a:rPr>
              <a:t>26/7/31</a:t>
            </a:fld>
            <a:endParaRPr b="0" lang="en-US" sz="1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84" name="Text Box 3"/>
          <p:cNvSpPr/>
          <p:nvPr/>
        </p:nvSpPr>
        <p:spPr>
          <a:xfrm>
            <a:off x="254160" y="2438280"/>
            <a:ext cx="8610480" cy="98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专业版简介</a:t>
            </a:r>
            <a:endParaRPr b="0" lang="en-US" sz="6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85" name="矩形 1"/>
          <p:cNvSpPr/>
          <p:nvPr/>
        </p:nvSpPr>
        <p:spPr>
          <a:xfrm>
            <a:off x="457200" y="4038480"/>
            <a:ext cx="830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专业版包含普及版全部功能，在普及版的基础上，增加了网点（客户）管理、线路管理、拜访管理、现场工作记录表、手机订单、客户进销存、巡检、工单管理等功能。如果您有相对稳定的网点（客户）需要员工重复拜访，拍照、记录现场信息，就选择专业版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灯片编号占位符 3"/>
          <p:cNvSpPr/>
          <p:nvPr/>
        </p:nvSpPr>
        <p:spPr>
          <a:xfrm>
            <a:off x="77760" y="6477120"/>
            <a:ext cx="52563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12D4F-91A4-4076-8D33-6F206BA6D874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终端通（北京）有限公司 版权所有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400-8610-878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87" name="日期占位符 4"/>
          <p:cNvSpPr/>
          <p:nvPr/>
        </p:nvSpPr>
        <p:spPr>
          <a:xfrm>
            <a:off x="5456160" y="6500880"/>
            <a:ext cx="194652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21E9E-4B38-4218-9050-7C95A8A427C4}" type="datetime">
              <a:rPr b="0" lang="zh-CN" sz="1000" spc="-1" strike="noStrike">
                <a:solidFill>
                  <a:srgbClr val="ffffff"/>
                </a:solidFill>
                <a:latin typeface="Arial"/>
              </a:rPr>
              <a:t>26/7/31</a:t>
            </a:fld>
            <a:endParaRPr b="0" lang="en-US" sz="1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0" y="3171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黑体"/>
              </a:rPr>
              <a:t>将网点（客户）定位在地图上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89" name="矩形 1"/>
          <p:cNvSpPr/>
          <p:nvPr/>
        </p:nvSpPr>
        <p:spPr>
          <a:xfrm>
            <a:off x="228600" y="487692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如上图，将网点定位在地图上之后，每个网点的位置，就确定了。据此可规划员工线路，“控制”员工真正到达这些网点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390" name="图片 6" descr=""/>
          <p:cNvPicPr/>
          <p:nvPr/>
        </p:nvPicPr>
        <p:blipFill>
          <a:blip r:embed="rId1"/>
          <a:stretch/>
        </p:blipFill>
        <p:spPr>
          <a:xfrm>
            <a:off x="1981080" y="1752480"/>
            <a:ext cx="4762800" cy="2381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灯片编号占位符 3"/>
          <p:cNvSpPr/>
          <p:nvPr/>
        </p:nvSpPr>
        <p:spPr>
          <a:xfrm>
            <a:off x="77760" y="6477120"/>
            <a:ext cx="52563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0549A-2E36-4343-9C7F-037CF707B12C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终端通（北京）有限公司 版权所有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400-8610-878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92" name="日期占位符 4"/>
          <p:cNvSpPr/>
          <p:nvPr/>
        </p:nvSpPr>
        <p:spPr>
          <a:xfrm>
            <a:off x="5456160" y="6500880"/>
            <a:ext cx="194652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3E465-DA04-4A9D-B536-CBBE8E5FA4B3}" type="datetime">
              <a:rPr b="0" lang="zh-CN" sz="1000" spc="-1" strike="noStrike">
                <a:solidFill>
                  <a:srgbClr val="ffffff"/>
                </a:solidFill>
                <a:latin typeface="Arial"/>
              </a:rPr>
              <a:t>26/7/31</a:t>
            </a:fld>
            <a:endParaRPr b="0" lang="en-US" sz="1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0" y="3171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黑体"/>
              </a:rPr>
              <a:t>确保员工真正到达现场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94" name="矩形 1"/>
          <p:cNvSpPr/>
          <p:nvPr/>
        </p:nvSpPr>
        <p:spPr>
          <a:xfrm>
            <a:off x="152280" y="2057400"/>
            <a:ext cx="876312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当员工真正到达某个网点时，系统才允许他填写该网点的“现场工作记录表”，尚未到达、或已经离开，都无法填写，确保所提交的文字、数据、照片是真实可靠的。也只有正确填写了现场工作记录表，系统才认为他真正“拜访”了这个网点，否则，将记入漏访，无业绩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与定位版不同：定位版中，是否按时到达，只能由经理通过轨迹人工判断。在专业版中，则由系统自动控制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灯片编号占位符 3"/>
          <p:cNvSpPr/>
          <p:nvPr/>
        </p:nvSpPr>
        <p:spPr>
          <a:xfrm>
            <a:off x="77760" y="6477120"/>
            <a:ext cx="52563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9CCA8-08A9-4F41-9E2E-24D44BCD07B9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终端通（北京）有限公司 版权所有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400-8610-878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96" name="日期占位符 4"/>
          <p:cNvSpPr/>
          <p:nvPr/>
        </p:nvSpPr>
        <p:spPr>
          <a:xfrm>
            <a:off x="5456160" y="6500880"/>
            <a:ext cx="194652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BCC2D-F5F9-4240-A512-1D326A6FE771}" type="datetime">
              <a:rPr b="0" lang="zh-CN" sz="1000" spc="-1" strike="noStrike">
                <a:solidFill>
                  <a:srgbClr val="ffffff"/>
                </a:solidFill>
                <a:latin typeface="Arial"/>
              </a:rPr>
              <a:t>26/7/31</a:t>
            </a:fld>
            <a:endParaRPr b="0" lang="en-US" sz="1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0" y="3171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黑体"/>
              </a:rPr>
              <a:t>网点（客户）类别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98" name="矩形 1"/>
          <p:cNvSpPr/>
          <p:nvPr/>
        </p:nvSpPr>
        <p:spPr>
          <a:xfrm>
            <a:off x="228600" y="2590920"/>
            <a:ext cx="8763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网点可以分多种类别（上图中的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等，表示的就是不同类别的网点），一个类别可以定义一套“现场工作记录表”（工作步骤），对网点的分类，以及现场工作记录表的增加、删除和变更，由企业指定的系统管理员操作，员工只能按设定的流程执行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灯片编号占位符 3"/>
          <p:cNvSpPr/>
          <p:nvPr/>
        </p:nvSpPr>
        <p:spPr>
          <a:xfrm>
            <a:off x="77760" y="6477120"/>
            <a:ext cx="52563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A85F3-12D4-48F6-B5F0-B7014DE279AD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终端通（北京）有限公司 版权所有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400-8610-878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0" name="日期占位符 4"/>
          <p:cNvSpPr/>
          <p:nvPr/>
        </p:nvSpPr>
        <p:spPr>
          <a:xfrm>
            <a:off x="5456160" y="6500880"/>
            <a:ext cx="194652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55245-97FF-4E70-83B5-22AA6F77775B}" type="datetime">
              <a:rPr b="0" lang="zh-CN" sz="1000" spc="-1" strike="noStrike">
                <a:solidFill>
                  <a:srgbClr val="ffffff"/>
                </a:solidFill>
                <a:latin typeface="Arial"/>
              </a:rPr>
              <a:t>26/7/31</a:t>
            </a:fld>
            <a:endParaRPr b="0" lang="en-US" sz="1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0" y="3171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黑体"/>
              </a:rPr>
              <a:t>规范现场工作流程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2" name="矩形 1"/>
          <p:cNvSpPr/>
          <p:nvPr/>
        </p:nvSpPr>
        <p:spPr>
          <a:xfrm>
            <a:off x="228600" y="2286000"/>
            <a:ext cx="876312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现场工作记录表”规定了员工到达现场后的工作步骤、内容、结果，每完成一个步骤，就填写一个结果、拍摄一张照片，从而规范每个员工的工作流程，尽可能减少员工的随意性，确保工作结果达标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现场工作记录表”记录员工在每个点完成每个步骤的时间和结果，通过照片判断完成质量，通过时间判断工作效率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灯片编号占位符 3"/>
          <p:cNvSpPr/>
          <p:nvPr/>
        </p:nvSpPr>
        <p:spPr>
          <a:xfrm>
            <a:off x="77760" y="6477120"/>
            <a:ext cx="52563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A193A-1F53-4124-BB45-DD64047B3B90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终端通（北京）有限公司 版权所有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400-8610-878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4" name="日期占位符 4"/>
          <p:cNvSpPr/>
          <p:nvPr/>
        </p:nvSpPr>
        <p:spPr>
          <a:xfrm>
            <a:off x="5456160" y="6500880"/>
            <a:ext cx="194652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D7372-B2BF-47B8-A6B8-6C8F9261C3EC}" type="datetime">
              <a:rPr b="0" lang="zh-CN" sz="1000" spc="-1" strike="noStrike">
                <a:solidFill>
                  <a:srgbClr val="ffffff"/>
                </a:solidFill>
                <a:latin typeface="Arial"/>
              </a:rPr>
              <a:t>26/7/31</a:t>
            </a:fld>
            <a:endParaRPr b="0" lang="en-US" sz="1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76320" y="304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黑体"/>
              </a:rPr>
              <a:t>总体流程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6" name="Text Box 3"/>
          <p:cNvSpPr/>
          <p:nvPr/>
        </p:nvSpPr>
        <p:spPr>
          <a:xfrm>
            <a:off x="152280" y="4876920"/>
            <a:ext cx="358164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事先计划线路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1200" spc="-1" strike="noStrike">
                <a:solidFill>
                  <a:srgbClr val="cc9900"/>
                </a:solidFill>
                <a:latin typeface="宋体"/>
              </a:rPr>
              <a:t>限定员工在一个或多个位置完成工作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407" name="Picture 6" descr="XXXX"/>
          <p:cNvPicPr/>
          <p:nvPr/>
        </p:nvPicPr>
        <p:blipFill>
          <a:blip r:embed="rId1"/>
          <a:stretch/>
        </p:blipFill>
        <p:spPr>
          <a:xfrm>
            <a:off x="304920" y="1298520"/>
            <a:ext cx="8426160" cy="3183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08" name="Oval 13"/>
          <p:cNvSpPr/>
          <p:nvPr/>
        </p:nvSpPr>
        <p:spPr>
          <a:xfrm>
            <a:off x="4213080" y="1138320"/>
            <a:ext cx="838440" cy="83808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409" name="Picture 7" descr="业务员图片"/>
          <p:cNvPicPr/>
          <p:nvPr/>
        </p:nvPicPr>
        <p:blipFill>
          <a:blip r:embed="rId2"/>
          <a:stretch/>
        </p:blipFill>
        <p:spPr>
          <a:xfrm>
            <a:off x="784080" y="1290600"/>
            <a:ext cx="476280" cy="600120"/>
          </a:xfrm>
          <a:prstGeom prst="rect">
            <a:avLst/>
          </a:prstGeom>
          <a:ln w="0">
            <a:noFill/>
          </a:ln>
        </p:spPr>
      </p:pic>
      <p:sp>
        <p:nvSpPr>
          <p:cNvPr id="410" name="Text Box 8"/>
          <p:cNvSpPr/>
          <p:nvPr/>
        </p:nvSpPr>
        <p:spPr>
          <a:xfrm>
            <a:off x="320760" y="1900080"/>
            <a:ext cx="1685880" cy="285480"/>
          </a:xfrm>
          <a:prstGeom prst="rect">
            <a:avLst/>
          </a:prstGeom>
          <a:solidFill>
            <a:srgbClr val="ffff00"/>
          </a:solidFill>
          <a:ln w="12600">
            <a:solidFill>
              <a:srgbClr val="ff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上班签到，启动定位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1" name="Text Box 10"/>
          <p:cNvSpPr/>
          <p:nvPr/>
        </p:nvSpPr>
        <p:spPr>
          <a:xfrm>
            <a:off x="3976560" y="1824120"/>
            <a:ext cx="1359000" cy="498600"/>
          </a:xfrm>
          <a:prstGeom prst="rect">
            <a:avLst/>
          </a:prstGeom>
          <a:solidFill>
            <a:srgbClr val="ffff00"/>
          </a:solidFill>
          <a:ln w="12600">
            <a:solidFill>
              <a:srgbClr val="ff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完成工作，记录结果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en-US" sz="1400" spc="-1" strike="noStrike">
                <a:solidFill>
                  <a:srgbClr val="000000"/>
                </a:solidFill>
                <a:latin typeface="宋体"/>
              </a:rPr>
              <a:t>…</a:t>
            </a:r>
            <a:r>
              <a:rPr b="0" lang="en-US" sz="1400" spc="-1" strike="noStrike">
                <a:solidFill>
                  <a:srgbClr val="000000"/>
                </a:solidFill>
                <a:latin typeface="宋体"/>
              </a:rPr>
              <a:t>,2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en-US" sz="1400" spc="-1" strike="noStrike">
                <a:solidFill>
                  <a:srgbClr val="000000"/>
                </a:solidFill>
                <a:latin typeface="宋体"/>
              </a:rPr>
              <a:t>…</a:t>
            </a:r>
            <a:r>
              <a:rPr b="0" lang="en-US" sz="1400" spc="-1" strike="noStrike">
                <a:solidFill>
                  <a:srgbClr val="000000"/>
                </a:solidFill>
                <a:latin typeface="宋体"/>
              </a:rPr>
              <a:t>,3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en-US" sz="1400" spc="-1" strike="noStrike">
                <a:solidFill>
                  <a:srgbClr val="000000"/>
                </a:solidFill>
                <a:latin typeface="宋体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2" name="Text Box 12"/>
          <p:cNvSpPr/>
          <p:nvPr/>
        </p:nvSpPr>
        <p:spPr>
          <a:xfrm>
            <a:off x="4692240" y="4262400"/>
            <a:ext cx="1032840" cy="285480"/>
          </a:xfrm>
          <a:prstGeom prst="rect">
            <a:avLst/>
          </a:prstGeom>
          <a:solidFill>
            <a:srgbClr val="ffff00"/>
          </a:solidFill>
          <a:ln w="12600">
            <a:solidFill>
              <a:srgbClr val="ff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下班签到，解除定位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3" name="Oval 15"/>
          <p:cNvSpPr/>
          <p:nvPr/>
        </p:nvSpPr>
        <p:spPr>
          <a:xfrm>
            <a:off x="7642080" y="3500280"/>
            <a:ext cx="838440" cy="83844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4" name="Oval 14"/>
          <p:cNvSpPr/>
          <p:nvPr/>
        </p:nvSpPr>
        <p:spPr>
          <a:xfrm>
            <a:off x="4594320" y="2357280"/>
            <a:ext cx="838080" cy="83844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5" name="Text Box 9"/>
          <p:cNvSpPr/>
          <p:nvPr/>
        </p:nvSpPr>
        <p:spPr>
          <a:xfrm>
            <a:off x="6618240" y="1447920"/>
            <a:ext cx="1359000" cy="498600"/>
          </a:xfrm>
          <a:prstGeom prst="rect">
            <a:avLst/>
          </a:prstGeom>
          <a:solidFill>
            <a:srgbClr val="ffff00"/>
          </a:solidFill>
          <a:ln w="12600">
            <a:solidFill>
              <a:srgbClr val="ff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明确到位后的工作内容、步骤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en-US" sz="1400" spc="-1" strike="noStrike">
                <a:solidFill>
                  <a:srgbClr val="000000"/>
                </a:solidFill>
                <a:latin typeface="宋体"/>
              </a:rPr>
              <a:t>…</a:t>
            </a:r>
            <a:r>
              <a:rPr b="0" lang="en-US" sz="1400" spc="-1" strike="noStrike">
                <a:solidFill>
                  <a:srgbClr val="000000"/>
                </a:solidFill>
                <a:latin typeface="宋体"/>
              </a:rPr>
              <a:t>,2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en-US" sz="1400" spc="-1" strike="noStrike">
                <a:solidFill>
                  <a:srgbClr val="000000"/>
                </a:solidFill>
                <a:latin typeface="宋体"/>
              </a:rPr>
              <a:t>…</a:t>
            </a:r>
            <a:r>
              <a:rPr b="0" lang="en-US" sz="1400" spc="-1" strike="noStrike">
                <a:solidFill>
                  <a:srgbClr val="000000"/>
                </a:solidFill>
                <a:latin typeface="宋体"/>
              </a:rPr>
              <a:t>,3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en-US" sz="1400" spc="-1" strike="noStrike">
                <a:solidFill>
                  <a:srgbClr val="000000"/>
                </a:solidFill>
                <a:latin typeface="宋体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6" name="Text Box 11"/>
          <p:cNvSpPr/>
          <p:nvPr/>
        </p:nvSpPr>
        <p:spPr>
          <a:xfrm>
            <a:off x="4357440" y="2987640"/>
            <a:ext cx="1359000" cy="498600"/>
          </a:xfrm>
          <a:prstGeom prst="rect">
            <a:avLst/>
          </a:prstGeom>
          <a:solidFill>
            <a:srgbClr val="ffff00"/>
          </a:solidFill>
          <a:ln w="12600">
            <a:solidFill>
              <a:srgbClr val="ff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完成工作，记录结果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en-US" sz="1400" spc="-1" strike="noStrike">
                <a:solidFill>
                  <a:srgbClr val="000000"/>
                </a:solidFill>
                <a:latin typeface="宋体"/>
              </a:rPr>
              <a:t>…</a:t>
            </a:r>
            <a:r>
              <a:rPr b="0" lang="en-US" sz="1400" spc="-1" strike="noStrike">
                <a:solidFill>
                  <a:srgbClr val="000000"/>
                </a:solidFill>
                <a:latin typeface="宋体"/>
              </a:rPr>
              <a:t>,2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en-US" sz="1400" spc="-1" strike="noStrike">
                <a:solidFill>
                  <a:srgbClr val="000000"/>
                </a:solidFill>
                <a:latin typeface="宋体"/>
              </a:rPr>
              <a:t>…</a:t>
            </a:r>
            <a:r>
              <a:rPr b="0" lang="en-US" sz="1400" spc="-1" strike="noStrike">
                <a:solidFill>
                  <a:srgbClr val="000000"/>
                </a:solidFill>
                <a:latin typeface="宋体"/>
              </a:rPr>
              <a:t>,3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en-US" sz="1400" spc="-1" strike="noStrike">
                <a:solidFill>
                  <a:srgbClr val="000000"/>
                </a:solidFill>
                <a:latin typeface="宋体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7" name="Rectangle 16"/>
          <p:cNvSpPr/>
          <p:nvPr/>
        </p:nvSpPr>
        <p:spPr>
          <a:xfrm>
            <a:off x="749880" y="5943600"/>
            <a:ext cx="223056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在手机上形成工作流程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8" name="Rectangle 17"/>
          <p:cNvSpPr/>
          <p:nvPr/>
        </p:nvSpPr>
        <p:spPr>
          <a:xfrm>
            <a:off x="152280" y="5410080"/>
            <a:ext cx="426744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设定网点工作内容、步骤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1200" spc="-1" strike="noStrike">
                <a:solidFill>
                  <a:srgbClr val="cc9900"/>
                </a:solidFill>
                <a:latin typeface="宋体"/>
              </a:rPr>
              <a:t>明确到位后工作内容、步骤、流程、要求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9" name="Rectangle 18"/>
          <p:cNvSpPr/>
          <p:nvPr/>
        </p:nvSpPr>
        <p:spPr>
          <a:xfrm>
            <a:off x="5377680" y="5410080"/>
            <a:ext cx="246204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经理远程监督与检查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1200" spc="-1" strike="noStrike">
                <a:solidFill>
                  <a:srgbClr val="cc9900"/>
                </a:solidFill>
                <a:latin typeface="宋体"/>
              </a:rPr>
              <a:t>经理用手机或电脑审批记录，逐条打分，量化员工绩效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20" name="Rectangle 19"/>
          <p:cNvSpPr/>
          <p:nvPr/>
        </p:nvSpPr>
        <p:spPr>
          <a:xfrm>
            <a:off x="5293800" y="5943600"/>
            <a:ext cx="259632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6.</a:t>
            </a:r>
            <a:r>
              <a:rPr b="1" lang="zh-CN" sz="2400" spc="-1" strike="noStrike">
                <a:solidFill>
                  <a:srgbClr val="cc3300"/>
                </a:solidFill>
                <a:latin typeface="宋体"/>
              </a:rPr>
              <a:t>奖惩：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按得分核算绩效工资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21" name="Rectangle 21"/>
          <p:cNvSpPr/>
          <p:nvPr/>
        </p:nvSpPr>
        <p:spPr>
          <a:xfrm>
            <a:off x="4575240" y="4876920"/>
            <a:ext cx="456876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辗转各点完成工作，记录结果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1200" spc="-1" strike="noStrike">
                <a:solidFill>
                  <a:srgbClr val="cc9900"/>
                </a:solidFill>
                <a:latin typeface="宋体"/>
              </a:rPr>
              <a:t>记录定位轨迹，完成每步工作，逐个填写现场工作记录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22" name="Text Box 22"/>
          <p:cNvSpPr/>
          <p:nvPr/>
        </p:nvSpPr>
        <p:spPr>
          <a:xfrm>
            <a:off x="7326360" y="4191120"/>
            <a:ext cx="1359000" cy="498600"/>
          </a:xfrm>
          <a:prstGeom prst="rect">
            <a:avLst/>
          </a:prstGeom>
          <a:solidFill>
            <a:srgbClr val="ffff00"/>
          </a:solidFill>
          <a:ln w="12600">
            <a:solidFill>
              <a:srgbClr val="ff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完成工作，记录结果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en-US" sz="1400" spc="-1" strike="noStrike">
                <a:solidFill>
                  <a:srgbClr val="000000"/>
                </a:solidFill>
                <a:latin typeface="宋体"/>
              </a:rPr>
              <a:t>…</a:t>
            </a:r>
            <a:r>
              <a:rPr b="0" lang="en-US" sz="1400" spc="-1" strike="noStrike">
                <a:solidFill>
                  <a:srgbClr val="000000"/>
                </a:solidFill>
                <a:latin typeface="宋体"/>
              </a:rPr>
              <a:t>,2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en-US" sz="1400" spc="-1" strike="noStrike">
                <a:solidFill>
                  <a:srgbClr val="000000"/>
                </a:solidFill>
                <a:latin typeface="宋体"/>
              </a:rPr>
              <a:t>…</a:t>
            </a:r>
            <a:r>
              <a:rPr b="0" lang="en-US" sz="1400" spc="-1" strike="noStrike">
                <a:solidFill>
                  <a:srgbClr val="000000"/>
                </a:solidFill>
                <a:latin typeface="宋体"/>
              </a:rPr>
              <a:t>,3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en-US" sz="1400" spc="-1" strike="noStrike">
                <a:solidFill>
                  <a:srgbClr val="000000"/>
                </a:solidFill>
                <a:latin typeface="宋体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23" name="Text Box 25"/>
          <p:cNvSpPr/>
          <p:nvPr/>
        </p:nvSpPr>
        <p:spPr>
          <a:xfrm>
            <a:off x="644400" y="3835440"/>
            <a:ext cx="1717560" cy="621000"/>
          </a:xfrm>
          <a:prstGeom prst="rect">
            <a:avLst/>
          </a:prstGeom>
          <a:solidFill>
            <a:srgbClr val="ffff00"/>
          </a:solidFill>
          <a:ln w="38160">
            <a:solidFill>
              <a:srgbClr val="ff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宋体"/>
              </a:rPr>
              <a:t>布置</a:t>
            </a:r>
            <a:r>
              <a:rPr b="0" lang="en-US" sz="1800" spc="-1" strike="noStrike">
                <a:solidFill>
                  <a:srgbClr val="ff0000"/>
                </a:solidFill>
                <a:latin typeface="宋体"/>
              </a:rPr>
              <a:t>-</a:t>
            </a:r>
            <a:r>
              <a:rPr b="0" lang="zh-CN" sz="1800" spc="-1" strike="noStrike">
                <a:solidFill>
                  <a:srgbClr val="ff0000"/>
                </a:solidFill>
                <a:latin typeface="宋体"/>
              </a:rPr>
              <a:t>完成</a:t>
            </a:r>
            <a:r>
              <a:rPr b="0" lang="en-US" sz="1800" spc="-1" strike="noStrike">
                <a:solidFill>
                  <a:srgbClr val="ff0000"/>
                </a:solidFill>
                <a:latin typeface="宋体"/>
              </a:rPr>
              <a:t>-</a:t>
            </a:r>
            <a:r>
              <a:rPr b="0" lang="zh-CN" sz="1800" spc="-1" strike="noStrike">
                <a:solidFill>
                  <a:srgbClr val="ff0000"/>
                </a:solidFill>
                <a:latin typeface="宋体"/>
              </a:rPr>
              <a:t>检查</a:t>
            </a:r>
            <a:r>
              <a:rPr b="0" lang="en-US" sz="1800" spc="-1" strike="noStrike">
                <a:solidFill>
                  <a:srgbClr val="ff0000"/>
                </a:solidFill>
                <a:latin typeface="宋体"/>
              </a:rPr>
              <a:t>-</a:t>
            </a:r>
            <a:r>
              <a:rPr b="0" lang="zh-CN" sz="1800" spc="-1" strike="noStrike">
                <a:solidFill>
                  <a:srgbClr val="ff0000"/>
                </a:solidFill>
                <a:latin typeface="宋体"/>
              </a:rPr>
              <a:t>奖惩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宋体"/>
              </a:rPr>
              <a:t>环环相扣，无人能偷懒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24" name="Text Box 23"/>
          <p:cNvSpPr/>
          <p:nvPr/>
        </p:nvSpPr>
        <p:spPr>
          <a:xfrm>
            <a:off x="1825200" y="3881520"/>
            <a:ext cx="235800" cy="498960"/>
          </a:xfrm>
          <a:prstGeom prst="rect">
            <a:avLst/>
          </a:prstGeom>
          <a:solidFill>
            <a:srgbClr val="ffff00"/>
          </a:solidFill>
          <a:ln w="38160">
            <a:solidFill>
              <a:srgbClr val="ff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播放动画、理解原理</a:t>
            </a: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" dur="1" fill="hold">
                                    <p:stCondLst>
                                      <p:cond evt="end">
                                        <p:tn val="12"/>
                                      </p:cond>
                                    </p:stCondLst>
                                  </p:cTn>
                                  <p:tgtEl>
                                    <p:spTgt spid="42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" dur="1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" dur="1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1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4.44444E-006 L 0.23038 0.0831 L 0.55121 0.13148 L 0.67066 0.20741 L 0.71927 0.31296 L 0.74705 0.35741 E">
                                      <p:cBhvr>
                                        <p:cTn id="60" dur="5000" fill="hold"/>
                                        <p:tgtEl>
                                          <p:spTgt spid="4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4705 0.3574 L 0.7026 0.31481 L 0.62899 0.19814 L 0.55538 0.14073 L 0.41371 -0.01482 E">
                                      <p:cBhvr>
                                        <p:cTn id="68" dur="2000" fill="hold"/>
                                        <p:tgtEl>
                                          <p:spTgt spid="4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2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1372 -0.01482 L 0.39288 0.05 L 0.44149 0.14074 L 0.42344 0.18333 E">
                                      <p:cBhvr>
                                        <p:cTn id="77" dur="2000" fill="hold"/>
                                        <p:tgtEl>
                                          <p:spTgt spid="4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1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2344 0.18333 L 0.47066 0.3537 L 0.4526 0.38519 E">
                                      <p:cBhvr>
                                        <p:cTn id="86" dur="2000" fill="hold"/>
                                        <p:tgtEl>
                                          <p:spTgt spid="4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1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5" dur="1" fill="hold">
                                    <p:stCondLst>
                                      <p:cond evt="end">
                                        <p:tn val="103"/>
                                      </p:cond>
                                    </p:stCondLst>
                                  </p:cTn>
                                  <p:tgtEl>
                                    <p:spTgt spid="42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灯片编号占位符 3"/>
          <p:cNvSpPr/>
          <p:nvPr/>
        </p:nvSpPr>
        <p:spPr>
          <a:xfrm>
            <a:off x="77760" y="6477120"/>
            <a:ext cx="52563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FC896-14D4-475C-812F-C5FAA7EB49BD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终端通（北京）有限公司 版权所有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400-8610-878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26" name="日期占位符 4"/>
          <p:cNvSpPr/>
          <p:nvPr/>
        </p:nvSpPr>
        <p:spPr>
          <a:xfrm>
            <a:off x="5456160" y="6500880"/>
            <a:ext cx="194652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5FB8A-6FE5-4ED2-A93B-9B1EBDFAAF24}" type="datetime">
              <a:rPr b="0" lang="zh-CN" sz="1000" spc="-1" strike="noStrike">
                <a:solidFill>
                  <a:srgbClr val="ffffff"/>
                </a:solidFill>
                <a:latin typeface="Arial"/>
              </a:rPr>
              <a:t>26/7/31</a:t>
            </a:fld>
            <a:endParaRPr b="0" lang="en-US" sz="1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76320" y="304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黑体"/>
              </a:rPr>
              <a:t>行踪与工作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pic>
        <p:nvPicPr>
          <p:cNvPr id="428" name="Picture 6" descr="zzb_n4"/>
          <p:cNvPicPr/>
          <p:nvPr/>
        </p:nvPicPr>
        <p:blipFill>
          <a:blip r:embed="rId1"/>
          <a:stretch/>
        </p:blipFill>
        <p:spPr>
          <a:xfrm>
            <a:off x="2717640" y="1295280"/>
            <a:ext cx="3733920" cy="29512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429" name="矩形 1"/>
          <p:cNvSpPr/>
          <p:nvPr/>
        </p:nvSpPr>
        <p:spPr>
          <a:xfrm>
            <a:off x="152280" y="4648320"/>
            <a:ext cx="87631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一条轨迹，真实记录员工上班期间的活动路径，以及到达每个工作点的时间。如上图，该员工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12:18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到达华研尚街店，并在此填写了工作记录；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16:27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到达学府店，在此工作并填写了现场记录。经理一眼便知该员工是否有脱岗，该去的位置（网点），是否都去过了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轨迹记录了员工到达每个网点的时间，现场记录则展示在这个点完成的工作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灯片编号占位符 3"/>
          <p:cNvSpPr/>
          <p:nvPr/>
        </p:nvSpPr>
        <p:spPr>
          <a:xfrm>
            <a:off x="77760" y="6477120"/>
            <a:ext cx="52563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7FC33-E1BF-4EDE-B843-074894A76CAF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终端通（北京）有限公司 版权所有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400-8610-878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1" name="日期占位符 4"/>
          <p:cNvSpPr/>
          <p:nvPr/>
        </p:nvSpPr>
        <p:spPr>
          <a:xfrm>
            <a:off x="5456160" y="6500880"/>
            <a:ext cx="194652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7589F-A85B-4CE7-B6E6-342FBE087D05}" type="datetime">
              <a:rPr b="0" lang="zh-CN" sz="1000" spc="-1" strike="noStrike">
                <a:solidFill>
                  <a:srgbClr val="ffffff"/>
                </a:solidFill>
                <a:latin typeface="Arial"/>
              </a:rPr>
              <a:t>26/7/31</a:t>
            </a:fld>
            <a:endParaRPr b="0" lang="en-US" sz="1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76320" y="304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黑体"/>
              </a:rPr>
              <a:t>检查、审批现场记录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33" name="矩形 1"/>
          <p:cNvSpPr/>
          <p:nvPr/>
        </p:nvSpPr>
        <p:spPr>
          <a:xfrm>
            <a:off x="152280" y="4896000"/>
            <a:ext cx="87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如上图，该员工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10:39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在崂山店工作，点击图标，即可查看具体的现场记录。同样，点击“大润发邳州”可以看到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11:52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员工在这里完成了哪些工作。据此，掌握现场真实情况，判断现场工作是否达标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434" name="图片 1" descr=""/>
          <p:cNvPicPr/>
          <p:nvPr/>
        </p:nvPicPr>
        <p:blipFill>
          <a:blip r:embed="rId1"/>
          <a:stretch/>
        </p:blipFill>
        <p:spPr>
          <a:xfrm>
            <a:off x="1866960" y="1638360"/>
            <a:ext cx="533412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灯片编号占位符 3"/>
          <p:cNvSpPr/>
          <p:nvPr/>
        </p:nvSpPr>
        <p:spPr>
          <a:xfrm>
            <a:off x="77760" y="6477120"/>
            <a:ext cx="52563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C78E2-7810-4B66-9EDB-76BCC056AB27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终端通（北京）有限公司 版权所有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400-8610-878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36" name="日期占位符 4"/>
          <p:cNvSpPr/>
          <p:nvPr/>
        </p:nvSpPr>
        <p:spPr>
          <a:xfrm>
            <a:off x="5456160" y="6500880"/>
            <a:ext cx="194652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5D993-6633-40AA-A280-CE8F09CEE3FB}" type="datetime">
              <a:rPr b="0" lang="zh-CN" sz="1000" spc="-1" strike="noStrike">
                <a:solidFill>
                  <a:srgbClr val="ffffff"/>
                </a:solidFill>
                <a:latin typeface="Arial"/>
              </a:rPr>
              <a:t>26/7/31</a:t>
            </a:fld>
            <a:endParaRPr b="0" lang="en-US" sz="1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75960" y="304560"/>
            <a:ext cx="8762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黑体"/>
              </a:rPr>
              <a:t>终端通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黑体"/>
              </a:rPr>
              <a:t>—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黑体"/>
              </a:rPr>
              <a:t>业务掌中宝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38" name="Text Box 3"/>
          <p:cNvSpPr/>
          <p:nvPr/>
        </p:nvSpPr>
        <p:spPr>
          <a:xfrm>
            <a:off x="304920" y="5486400"/>
            <a:ext cx="8610480" cy="3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这是一套定位管理的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app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（必须安装在每个员工的手机上），有定位版、普及版、专业版三个版本，不同版本功能不同，价格也不一样。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339" name="Picture 8" descr="http://www.zdt6.cn/img/zzb_n1.jpg"/>
          <p:cNvPicPr/>
          <p:nvPr/>
        </p:nvPicPr>
        <p:blipFill>
          <a:blip r:embed="rId1"/>
          <a:stretch/>
        </p:blipFill>
        <p:spPr>
          <a:xfrm>
            <a:off x="2809800" y="1646280"/>
            <a:ext cx="5953320" cy="31906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340" name="矩形 1"/>
          <p:cNvSpPr/>
          <p:nvPr/>
        </p:nvSpPr>
        <p:spPr>
          <a:xfrm>
            <a:off x="76320" y="2133720"/>
            <a:ext cx="2733480" cy="183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定位管理</a:t>
            </a:r>
            <a:r>
              <a:rPr b="1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app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400"/>
            </a:br>
            <a:br>
              <a:rPr sz="1400"/>
            </a:b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移动、联通、电信全覆盖；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宋体"/>
              </a:rPr>
              <a:t>2g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宋体"/>
              </a:rPr>
              <a:t>3g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宋体"/>
              </a:rPr>
              <a:t>4g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都可以；全国无死角。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灯片编号占位符 3"/>
          <p:cNvSpPr/>
          <p:nvPr/>
        </p:nvSpPr>
        <p:spPr>
          <a:xfrm>
            <a:off x="77760" y="6477120"/>
            <a:ext cx="52563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DB2FC-B786-4B27-937C-38770B959E5E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终端通（北京）有限公司 版权所有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400-8610-878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6" name="日期占位符 4"/>
          <p:cNvSpPr/>
          <p:nvPr/>
        </p:nvSpPr>
        <p:spPr>
          <a:xfrm>
            <a:off x="5456160" y="6500880"/>
            <a:ext cx="194652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DAA81-F45B-43BF-8A5D-B2C1213391A3}" type="datetime">
              <a:rPr b="0" lang="zh-CN" sz="1000" spc="-1" strike="noStrike">
                <a:solidFill>
                  <a:srgbClr val="ffffff"/>
                </a:solidFill>
                <a:latin typeface="Arial"/>
              </a:rPr>
              <a:t>26/7/31</a:t>
            </a:fld>
            <a:endParaRPr b="0" lang="en-US" sz="1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76320" y="304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黑体"/>
              </a:rPr>
              <a:t>绩效管理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38" name="矩形 1"/>
          <p:cNvSpPr/>
          <p:nvPr/>
        </p:nvSpPr>
        <p:spPr>
          <a:xfrm>
            <a:off x="152280" y="17524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晚上，经理拿出手机，检查员工一天都去了哪里，在每个网点的工作都做得怎么样。这个网点去了就有分，那个网点没去，就没有分。这个步骤做得好，就多给点分，那个步骤做得不好就少给点分。让员工次日就能查到自己前一日的绩效分和所得奖金，明白哪些工作做得好，哪些工作还需要改进。显然，要不了几天，员工就会明白：我跑的点越多，得分越多，每个点的工作干得越好，得分就会越多。得分越多，则奖金越高。真正实现：多劳多得，少劳少得，不劳不得。引导员工向企业希望的方向努力。系统自动按月汇总每个员工的绩效分和绩效奖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灯片编号占位符 3"/>
          <p:cNvSpPr/>
          <p:nvPr/>
        </p:nvSpPr>
        <p:spPr>
          <a:xfrm>
            <a:off x="77760" y="6477120"/>
            <a:ext cx="52563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A01B5-5789-4FA9-8E10-0BE78E2C94A9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终端通（北京）有限公司 版权所有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400-8610-878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40" name="日期占位符 4"/>
          <p:cNvSpPr/>
          <p:nvPr/>
        </p:nvSpPr>
        <p:spPr>
          <a:xfrm>
            <a:off x="5456160" y="6500880"/>
            <a:ext cx="194652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FB298-454A-4563-8013-36871C899A19}" type="datetime">
              <a:rPr b="0" lang="zh-CN" sz="1000" spc="-1" strike="noStrike">
                <a:solidFill>
                  <a:srgbClr val="ffffff"/>
                </a:solidFill>
                <a:latin typeface="Arial"/>
              </a:rPr>
              <a:t>26/7/31</a:t>
            </a:fld>
            <a:endParaRPr b="0" lang="en-US" sz="1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76320" y="304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黑体"/>
              </a:rPr>
              <a:t>网点（客户）分布图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42" name="Text Box 6"/>
          <p:cNvSpPr/>
          <p:nvPr/>
        </p:nvSpPr>
        <p:spPr>
          <a:xfrm>
            <a:off x="228600" y="1558800"/>
            <a:ext cx="853452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只需几秒，即可自动绘制出您的网点分布情况图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443" name="Picture 9" descr="zzb_kh_map"/>
          <p:cNvPicPr/>
          <p:nvPr/>
        </p:nvPicPr>
        <p:blipFill>
          <a:blip r:embed="rId1"/>
          <a:stretch/>
        </p:blipFill>
        <p:spPr>
          <a:xfrm>
            <a:off x="922320" y="2463840"/>
            <a:ext cx="7147080" cy="3259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灯片编号占位符 3"/>
          <p:cNvSpPr/>
          <p:nvPr/>
        </p:nvSpPr>
        <p:spPr>
          <a:xfrm>
            <a:off x="77760" y="6477120"/>
            <a:ext cx="52563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68AC5-4249-4463-8F14-1581C0E99A3C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终端通（北京）有限公司 版权所有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400-8610-878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45" name="日期占位符 4"/>
          <p:cNvSpPr/>
          <p:nvPr/>
        </p:nvSpPr>
        <p:spPr>
          <a:xfrm>
            <a:off x="5456160" y="6500880"/>
            <a:ext cx="194652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8F687-4C03-4D19-9B69-AEE91FC75CEC}" type="datetime">
              <a:rPr b="0" lang="zh-CN" sz="1000" spc="-1" strike="noStrike">
                <a:solidFill>
                  <a:srgbClr val="ffffff"/>
                </a:solidFill>
                <a:latin typeface="Arial"/>
              </a:rPr>
              <a:t>26/7/31</a:t>
            </a:fld>
            <a:endParaRPr b="0" lang="en-US" sz="1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76320" y="304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黑体"/>
              </a:rPr>
              <a:t>其他功能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47" name="矩形 1"/>
          <p:cNvSpPr/>
          <p:nvPr/>
        </p:nvSpPr>
        <p:spPr>
          <a:xfrm>
            <a:off x="152280" y="2468520"/>
            <a:ext cx="87631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专业版的功能很多，且针对不同行业，可以订制适合自己的功能：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●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比如快销行业，可以选择手机订单管理、手机进销存管理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●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比如燃气检修，可以选择手机巡检等等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灯片编号占位符 3"/>
          <p:cNvSpPr/>
          <p:nvPr/>
        </p:nvSpPr>
        <p:spPr>
          <a:xfrm>
            <a:off x="77760" y="6477120"/>
            <a:ext cx="52563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313D3-45B0-4729-A7B3-554D4606B056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终端通（北京）有限公司 版权所有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400-8610-878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49" name="日期占位符 4"/>
          <p:cNvSpPr/>
          <p:nvPr/>
        </p:nvSpPr>
        <p:spPr>
          <a:xfrm>
            <a:off x="5456160" y="6500880"/>
            <a:ext cx="194652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FB1CF-2C22-4388-8089-92D8D2C44DE7}" type="datetime">
              <a:rPr b="0" lang="zh-CN" sz="1000" spc="-1" strike="noStrike">
                <a:solidFill>
                  <a:srgbClr val="ffffff"/>
                </a:solidFill>
                <a:latin typeface="Arial"/>
              </a:rPr>
              <a:t>26/7/31</a:t>
            </a:fld>
            <a:endParaRPr b="0" lang="en-US" sz="1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50" name="Text Box 3"/>
          <p:cNvSpPr/>
          <p:nvPr/>
        </p:nvSpPr>
        <p:spPr>
          <a:xfrm>
            <a:off x="254160" y="2438280"/>
            <a:ext cx="8610480" cy="98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其他说明</a:t>
            </a:r>
            <a:endParaRPr b="0" lang="en-US" sz="6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灯片编号占位符 3"/>
          <p:cNvSpPr/>
          <p:nvPr/>
        </p:nvSpPr>
        <p:spPr>
          <a:xfrm>
            <a:off x="77760" y="6477120"/>
            <a:ext cx="52563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37F03-E34C-4503-A451-0E9177E1E9BA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终端通（北京）有限公司 版权所有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400-8610-878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52" name="日期占位符 4"/>
          <p:cNvSpPr/>
          <p:nvPr/>
        </p:nvSpPr>
        <p:spPr>
          <a:xfrm>
            <a:off x="5456160" y="6500880"/>
            <a:ext cx="194652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B51A7-861A-45A0-B760-B73DD19BDA30}" type="datetime">
              <a:rPr b="0" lang="zh-CN" sz="1000" spc="-1" strike="noStrike">
                <a:solidFill>
                  <a:srgbClr val="ffffff"/>
                </a:solidFill>
                <a:latin typeface="Arial"/>
              </a:rPr>
              <a:t>26/7/31</a:t>
            </a:fld>
            <a:endParaRPr b="0" lang="en-US" sz="1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76320" y="304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黑体"/>
              </a:rPr>
              <a:t>定位误差、流量、耗电情况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54" name="矩形 1"/>
          <p:cNvSpPr/>
          <p:nvPr/>
        </p:nvSpPr>
        <p:spPr>
          <a:xfrm>
            <a:off x="152280" y="1868400"/>
            <a:ext cx="8763120" cy="31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●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本系统，采用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GPS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wifi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移动信号三种方式定位，若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GPS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有信号，则使用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GPS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定位，否则检查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wifi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是否有信号，当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gps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wifi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都不能定位时，才使用移动基站定位。自动优先使用精度较高的定位方式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●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gps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定位误差在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3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米内，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wifi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在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4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米内，移动信号定位大多在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10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米内，有些会超过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30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米，偏远地区基站稀少，这时误差可能超过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公里。请员工打开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wifi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，这时，只要靠近村子，村中有人使用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wifi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，就能通过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wifi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定位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●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定位每日耗流量不超过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1m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，照片每张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100k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左右。通常，定位版每月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50m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，普及版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200m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，专业版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500m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就足够了。流量取决于您的业务量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●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不开启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gps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的情况下，耗电并不明显，但还是要配充电宝，以防万一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●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偏远地区，手机若无信号，请开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gps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，这时，系统会将定位记录暂存手机中，待信号恢复，即可自动上传至服务器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灯片编号占位符 3"/>
          <p:cNvSpPr/>
          <p:nvPr/>
        </p:nvSpPr>
        <p:spPr>
          <a:xfrm>
            <a:off x="77760" y="6477120"/>
            <a:ext cx="52563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2F0BE-BDA0-4203-8F5E-A8A628E2B87C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终端通（北京）有限公司 版权所有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400-8610-878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56" name="日期占位符 4"/>
          <p:cNvSpPr/>
          <p:nvPr/>
        </p:nvSpPr>
        <p:spPr>
          <a:xfrm>
            <a:off x="5456160" y="6500880"/>
            <a:ext cx="194652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25E58-7904-48F9-AB01-31455F911CEA}" type="datetime">
              <a:rPr b="0" lang="zh-CN" sz="1000" spc="-1" strike="noStrike">
                <a:solidFill>
                  <a:srgbClr val="ffffff"/>
                </a:solidFill>
                <a:latin typeface="Arial"/>
              </a:rPr>
              <a:t>26/7/31</a:t>
            </a:fld>
            <a:endParaRPr b="0" lang="en-US" sz="1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76320" y="304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黑体"/>
              </a:rPr>
              <a:t>实施流程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58" name="矩形 1"/>
          <p:cNvSpPr/>
          <p:nvPr/>
        </p:nvSpPr>
        <p:spPr>
          <a:xfrm>
            <a:off x="152280" y="1371600"/>
            <a:ext cx="8763120" cy="49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●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注册企业帐户（官网菜单中，点击“注册”）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●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登录企业账号（官网菜单中，点击“用户登录”）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●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按“新手操作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10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步骤”进行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●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全过程两周完成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浏览官网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htttp://www.zdt6.cn/zzb.jsp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产品：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了解各版本的介绍；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价格：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价格表及其购买流程；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注册：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点击这里，开始注册试用，试用数据，购买时直接转正，不会丢失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下载：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下载手机软件，管理制度模版等内容；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用户登录：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管理人员登录后台系统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459" name="图片 1" descr=""/>
          <p:cNvPicPr/>
          <p:nvPr/>
        </p:nvPicPr>
        <p:blipFill>
          <a:blip r:embed="rId1"/>
          <a:stretch/>
        </p:blipFill>
        <p:spPr>
          <a:xfrm>
            <a:off x="1219320" y="3429000"/>
            <a:ext cx="7164360" cy="7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灯片编号占位符 3"/>
          <p:cNvSpPr/>
          <p:nvPr/>
        </p:nvSpPr>
        <p:spPr>
          <a:xfrm>
            <a:off x="77760" y="6477120"/>
            <a:ext cx="52563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8D175-24F3-4D94-98A5-E2AA0671AB3E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终端通（北京）有限公司 版权所有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400-8610-878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61" name="日期占位符 4"/>
          <p:cNvSpPr/>
          <p:nvPr/>
        </p:nvSpPr>
        <p:spPr>
          <a:xfrm>
            <a:off x="5456160" y="6500880"/>
            <a:ext cx="194652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B6A99-7D44-4D00-A71A-1C53AC925270}" type="datetime">
              <a:rPr b="0" lang="zh-CN" sz="1000" spc="-1" strike="noStrike">
                <a:solidFill>
                  <a:srgbClr val="ffffff"/>
                </a:solidFill>
                <a:latin typeface="Arial"/>
              </a:rPr>
              <a:t>26/7/31</a:t>
            </a:fld>
            <a:endParaRPr b="0" lang="en-US" sz="1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76320" y="304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黑体"/>
              </a:rPr>
              <a:t>免费试用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黑体"/>
              </a:rPr>
              <a:t>7 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黑体"/>
              </a:rPr>
              <a:t>日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63" name="矩形 1"/>
          <p:cNvSpPr/>
          <p:nvPr/>
        </p:nvSpPr>
        <p:spPr>
          <a:xfrm>
            <a:off x="152280" y="2330280"/>
            <a:ext cx="876312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●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从注册之日算起，免费试用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7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日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●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试用期分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2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个阶段，第一阶段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天，结束后登录会提示激活第阶段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●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试用期间，可随时切换不同版本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●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试用满意，按“价格”页面的流程完成购买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灯片编号占位符 3"/>
          <p:cNvSpPr/>
          <p:nvPr/>
        </p:nvSpPr>
        <p:spPr>
          <a:xfrm>
            <a:off x="77760" y="6477120"/>
            <a:ext cx="52563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566F0-13D8-4FC2-8200-BB64F14B6FAE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终端通（北京）有限公司 版权所有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400-8610-878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65" name="日期占位符 4"/>
          <p:cNvSpPr/>
          <p:nvPr/>
        </p:nvSpPr>
        <p:spPr>
          <a:xfrm>
            <a:off x="5456160" y="6500880"/>
            <a:ext cx="194652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23FEE-95FC-4D1B-B2C6-DCB0E028A69C}" type="datetime">
              <a:rPr b="0" lang="zh-CN" sz="1000" spc="-1" strike="noStrike">
                <a:solidFill>
                  <a:srgbClr val="ffffff"/>
                </a:solidFill>
                <a:latin typeface="Arial"/>
              </a:rPr>
              <a:t>26/7/31</a:t>
            </a:fld>
            <a:endParaRPr b="0" lang="en-US" sz="1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76320" y="304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黑体"/>
              </a:rPr>
              <a:t>手机要求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67" name="矩形 1"/>
          <p:cNvSpPr/>
          <p:nvPr/>
        </p:nvSpPr>
        <p:spPr>
          <a:xfrm>
            <a:off x="152280" y="1828800"/>
            <a:ext cx="876312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实施本项目，只要每个员工有智能手机就行，手机要求如下：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苹果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以上，安卓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以上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宋体"/>
              </a:rPr>
              <a:t>注意</a:t>
            </a:r>
            <a:r>
              <a:rPr b="0" lang="en-US" sz="2400" spc="-1" strike="noStrike">
                <a:solidFill>
                  <a:srgbClr val="ff0000"/>
                </a:solidFill>
                <a:latin typeface="宋体"/>
              </a:rPr>
              <a:t>(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对定位轨迹比较重视的客户请注意</a:t>
            </a:r>
            <a:r>
              <a:rPr b="0" lang="en-US" sz="2400" spc="-1" strike="noStrike">
                <a:solidFill>
                  <a:srgbClr val="ff0000"/>
                </a:solidFill>
                <a:latin typeface="宋体"/>
              </a:rPr>
              <a:t>)</a:t>
            </a:r>
            <a:r>
              <a:rPr b="0" lang="zh-CN" sz="2400" spc="-1" strike="noStrike">
                <a:solidFill>
                  <a:srgbClr val="ff0000"/>
                </a:solidFill>
                <a:latin typeface="宋体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苹果手机设置简单。但安卓手机设置较为复杂。安卓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6.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以前的手机，几乎不需要多少设置，但从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6.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开始，有些手机厂家为了速度和电池，不断修改限制，导致有些型号设置较难。若个别员工设置有难度，可加客服微信，直接联系，由客服指导完成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灯片编号占位符 3"/>
          <p:cNvSpPr/>
          <p:nvPr/>
        </p:nvSpPr>
        <p:spPr>
          <a:xfrm>
            <a:off x="77760" y="6477120"/>
            <a:ext cx="52563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AE6CE-C902-492D-ABB8-2B8011469D36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终端通（北京）有限公司 版权所有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400-8610-878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69" name="日期占位符 4"/>
          <p:cNvSpPr/>
          <p:nvPr/>
        </p:nvSpPr>
        <p:spPr>
          <a:xfrm>
            <a:off x="5456160" y="6500880"/>
            <a:ext cx="194652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87803-8ABF-4F20-805E-1F3E86723A01}" type="datetime">
              <a:rPr b="0" lang="zh-CN" sz="1000" spc="-1" strike="noStrike">
                <a:solidFill>
                  <a:srgbClr val="ffffff"/>
                </a:solidFill>
                <a:latin typeface="Arial"/>
              </a:rPr>
              <a:t>26/7/31</a:t>
            </a:fld>
            <a:endParaRPr b="0" lang="en-US" sz="1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76320" y="304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黑体"/>
              </a:rPr>
              <a:t>价格表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pic>
        <p:nvPicPr>
          <p:cNvPr id="471" name="Picture 17" descr=""/>
          <p:cNvPicPr/>
          <p:nvPr/>
        </p:nvPicPr>
        <p:blipFill>
          <a:blip r:embed="rId1"/>
          <a:stretch/>
        </p:blipFill>
        <p:spPr>
          <a:xfrm>
            <a:off x="19080" y="1828800"/>
            <a:ext cx="9115560" cy="38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灯片编号占位符 3"/>
          <p:cNvSpPr/>
          <p:nvPr/>
        </p:nvSpPr>
        <p:spPr>
          <a:xfrm>
            <a:off x="77760" y="6477120"/>
            <a:ext cx="52563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D33DD-0D65-4620-96C5-D502A775C2B9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终端通（北京）有限公司 版权所有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400-8610-878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73" name="日期占位符 4"/>
          <p:cNvSpPr/>
          <p:nvPr/>
        </p:nvSpPr>
        <p:spPr>
          <a:xfrm>
            <a:off x="5456160" y="6500880"/>
            <a:ext cx="194652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259C1-6539-49F6-878A-408DFD668B46}" type="datetime">
              <a:rPr b="0" lang="zh-CN" sz="1000" spc="-1" strike="noStrike">
                <a:solidFill>
                  <a:srgbClr val="ffffff"/>
                </a:solidFill>
                <a:latin typeface="Arial"/>
              </a:rPr>
              <a:t>26/7/31</a:t>
            </a:fld>
            <a:endParaRPr b="0" lang="en-US" sz="1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76320" y="304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黑体"/>
              </a:rPr>
              <a:t>计费说明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5" name="矩形 1"/>
          <p:cNvSpPr/>
          <p:nvPr/>
        </p:nvSpPr>
        <p:spPr>
          <a:xfrm>
            <a:off x="152280" y="1143000"/>
            <a:ext cx="8763120" cy="419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●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本系统免费试用，通过试用确定您要使用的最终版本；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●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正式服务由客户自行充值，首次充值不低于</a:t>
            </a:r>
            <a:r>
              <a:rPr b="0" lang="en-US" sz="1400" spc="-1" strike="noStrike">
                <a:solidFill>
                  <a:srgbClr val="000000"/>
                </a:solidFill>
                <a:latin typeface="宋体"/>
              </a:rPr>
              <a:t>2600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元，以后续费充值每次不低于</a:t>
            </a:r>
            <a:r>
              <a:rPr b="0" lang="en-US" sz="1400" spc="-1" strike="noStrike">
                <a:solidFill>
                  <a:srgbClr val="000000"/>
                </a:solidFill>
                <a:latin typeface="宋体"/>
              </a:rPr>
              <a:t>1000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元人民币；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●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充值款不设期限，用完为止。本月使用，下月扣费；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●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余额消费完毕，客户不再续费的，视为客户解除合同，只要在月底前通知终端通停止系统，补交当前已产生费用（如有），即可终止服务；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●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系统自动计费。每月初按上月实际最大账号数扣除余额，根据人数，价格落在哪个区间就按哪个区间计算上月服务费；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●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服务价格由系统根据您企业的情况自动确定，任何人为承诺（包括终端通、以及终端通经销商的销售、客服等人员）请勿相信；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●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可随时增加员工，每月</a:t>
            </a:r>
            <a:r>
              <a:rPr b="0" lang="en-US" sz="1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日</a:t>
            </a:r>
            <a:r>
              <a:rPr b="0" lang="en-US" sz="1400" spc="-1" strike="noStrike">
                <a:solidFill>
                  <a:srgbClr val="000000"/>
                </a:solidFill>
                <a:latin typeface="宋体"/>
              </a:rPr>
              <a:t>0:00-15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日</a:t>
            </a:r>
            <a:r>
              <a:rPr b="0" lang="en-US" sz="1400" spc="-1" strike="noStrike">
                <a:solidFill>
                  <a:srgbClr val="000000"/>
                </a:solidFill>
                <a:latin typeface="宋体"/>
              </a:rPr>
              <a:t>24:00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新增人员，当月全价计费；</a:t>
            </a:r>
            <a:r>
              <a:rPr b="0" lang="en-US" sz="1400" spc="-1" strike="noStrike">
                <a:solidFill>
                  <a:srgbClr val="000000"/>
                </a:solidFill>
                <a:latin typeface="宋体"/>
              </a:rPr>
              <a:t>16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日</a:t>
            </a:r>
            <a:r>
              <a:rPr b="0" lang="en-US" sz="1400" spc="-1" strike="noStrike">
                <a:solidFill>
                  <a:srgbClr val="000000"/>
                </a:solidFill>
                <a:latin typeface="宋体"/>
              </a:rPr>
              <a:t>0:00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以后增加的人员，当月半价计费；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●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可随时删除员工，每月</a:t>
            </a:r>
            <a:r>
              <a:rPr b="0" lang="en-US" sz="14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日</a:t>
            </a:r>
            <a:r>
              <a:rPr b="0" lang="en-US" sz="1400" spc="-1" strike="noStrike">
                <a:solidFill>
                  <a:srgbClr val="000000"/>
                </a:solidFill>
                <a:latin typeface="宋体"/>
              </a:rPr>
              <a:t>24:00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之前删除的账户，当月不计费；</a:t>
            </a:r>
            <a:r>
              <a:rPr b="0" lang="en-US" sz="1400" spc="-1" strike="noStrike">
                <a:solidFill>
                  <a:srgbClr val="000000"/>
                </a:solidFill>
                <a:latin typeface="宋体"/>
              </a:rPr>
              <a:t>26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日</a:t>
            </a:r>
            <a:r>
              <a:rPr b="0" lang="en-US" sz="1400" spc="-1" strike="noStrike">
                <a:solidFill>
                  <a:srgbClr val="000000"/>
                </a:solidFill>
                <a:latin typeface="宋体"/>
              </a:rPr>
              <a:t>0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时之后新增的账户，当月免费；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●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增加当日就删除的人员，不计费，一旦隔日，则系统自动计费；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●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删除一个人，同时增加一个人，账号相同时，系统按一个人计费，账号不同时，系统会按两个人计费；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●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每月</a:t>
            </a:r>
            <a:r>
              <a:rPr b="0" lang="en-US" sz="1400" spc="-1" strike="noStrike">
                <a:solidFill>
                  <a:srgbClr val="000000"/>
                </a:solidFill>
                <a:latin typeface="宋体"/>
              </a:rPr>
              <a:t>26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日后出当月账单，请系统管理员在“系统管理</a:t>
            </a:r>
            <a:r>
              <a:rPr b="0" lang="en-US" sz="14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0" lang="en-US" sz="14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账单”功能中查看，</a:t>
            </a:r>
            <a:r>
              <a:rPr b="0" lang="en-US" sz="1400" spc="-1" strike="noStrike">
                <a:solidFill>
                  <a:srgbClr val="000000"/>
                </a:solidFill>
                <a:latin typeface="宋体"/>
              </a:rPr>
              <a:t>26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日后到下月</a:t>
            </a:r>
            <a:r>
              <a:rPr b="0" lang="en-US" sz="1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日前可对账；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●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如更换版本，请系统管理员随时在“系统管理</a:t>
            </a:r>
            <a:r>
              <a:rPr b="0" lang="en-US" sz="14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0" lang="en-US" sz="14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申请变更版本”功能中申请，变更下月起生效，费用也从下月开始按新版本计算；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●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余额不足时自动停止服务。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灯片编号占位符 3"/>
          <p:cNvSpPr/>
          <p:nvPr/>
        </p:nvSpPr>
        <p:spPr>
          <a:xfrm>
            <a:off x="77760" y="6477120"/>
            <a:ext cx="52563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E69D8-6462-492F-B8CA-E8173A8015F6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终端通（北京）有限公司 版权所有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400-8610-878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42" name="日期占位符 4"/>
          <p:cNvSpPr/>
          <p:nvPr/>
        </p:nvSpPr>
        <p:spPr>
          <a:xfrm>
            <a:off x="5456160" y="6500880"/>
            <a:ext cx="194652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6AE49-7EC5-4EDB-9A04-91A2D81AB263}" type="datetime">
              <a:rPr b="0" lang="zh-CN" sz="1000" spc="-1" strike="noStrike">
                <a:solidFill>
                  <a:srgbClr val="ffffff"/>
                </a:solidFill>
                <a:latin typeface="Arial"/>
              </a:rPr>
              <a:t>26/7/31</a:t>
            </a:fld>
            <a:endParaRPr b="0" lang="en-US" sz="1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43" name="Rectangle 9"/>
          <p:cNvSpPr/>
          <p:nvPr/>
        </p:nvSpPr>
        <p:spPr>
          <a:xfrm>
            <a:off x="2878920" y="1524240"/>
            <a:ext cx="183960" cy="3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22222"/>
                </a:solidFill>
                <a:latin typeface="Times New Roman"/>
              </a:rPr>
              <a:t>三个版本，适合不同的客户需求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44" name="Rectangle 10"/>
          <p:cNvSpPr/>
          <p:nvPr/>
        </p:nvSpPr>
        <p:spPr>
          <a:xfrm>
            <a:off x="533520" y="5334120"/>
            <a:ext cx="8076960" cy="3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如上图，蓝实线框内，是定位版的主要功能；红虚线框内，是普及版的主要功能；专业版则包含了所有功能。您注册试用账户后，可随时切换版本，试用不同的版本功能，以便评估哪个版本最适合您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45" name="Rectangle 2"/>
          <p:cNvSpPr/>
          <p:nvPr/>
        </p:nvSpPr>
        <p:spPr>
          <a:xfrm>
            <a:off x="76320" y="304920"/>
            <a:ext cx="87627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黑体"/>
              </a:rPr>
              <a:t>哪个版本适合您</a:t>
            </a: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346" name="Picture 14" descr=""/>
          <p:cNvPicPr/>
          <p:nvPr/>
        </p:nvPicPr>
        <p:blipFill>
          <a:blip r:embed="rId1"/>
          <a:stretch/>
        </p:blipFill>
        <p:spPr>
          <a:xfrm>
            <a:off x="1219320" y="1981080"/>
            <a:ext cx="6743520" cy="29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灯片编号占位符 3"/>
          <p:cNvSpPr/>
          <p:nvPr/>
        </p:nvSpPr>
        <p:spPr>
          <a:xfrm>
            <a:off x="77760" y="6477120"/>
            <a:ext cx="52563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1CAE6-48FC-430A-9D4C-364630FAD0A8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终端通（北京）有限公司 版权所有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400-8610-878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77" name="日期占位符 4"/>
          <p:cNvSpPr/>
          <p:nvPr/>
        </p:nvSpPr>
        <p:spPr>
          <a:xfrm>
            <a:off x="5456160" y="6500880"/>
            <a:ext cx="194652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A9CB2-F2D6-491B-9CD4-5793E24AAF01}" type="datetime">
              <a:rPr b="0" lang="zh-CN" sz="1000" spc="-1" strike="noStrike">
                <a:solidFill>
                  <a:srgbClr val="ffffff"/>
                </a:solidFill>
                <a:latin typeface="Arial"/>
              </a:rPr>
              <a:t>26/7/31</a:t>
            </a:fld>
            <a:endParaRPr b="0" lang="en-US" sz="1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76320" y="304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黑体"/>
              </a:rPr>
              <a:t>计费举例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9" name="矩形 1"/>
          <p:cNvSpPr/>
          <p:nvPr/>
        </p:nvSpPr>
        <p:spPr>
          <a:xfrm>
            <a:off x="152280" y="1698480"/>
            <a:ext cx="8763120" cy="36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●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某企业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2014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年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月购买定位版，当月使用人数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人；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● 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2014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年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月初，自动计算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月费用为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10 x 18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3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人以内，每人每月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18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元）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=18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元，从余额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260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元中扣除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18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元后，余额为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242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元；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●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如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月份新增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3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人，实际人数为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4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人（本系统人员可随时增减），则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月初扣除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月费用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40 x 16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31-10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人，每人每月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16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元）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=64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元后，余额为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178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元；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●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若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月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日前删除了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个人，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月份实际人数为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3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人，则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月初扣除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月费用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30 x 18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3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人以内，每人每月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18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元）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=54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元后，余额为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124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元；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●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若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月份系统管理员使用“系统管理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-&gt;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申请变更版本”功能升级为专业版，则从变更生效的当月起，也按专业版价格计费；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●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如此继续，直到余额不足以扣除当月费用，系统自动提醒充值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灯片编号占位符 3"/>
          <p:cNvSpPr/>
          <p:nvPr/>
        </p:nvSpPr>
        <p:spPr>
          <a:xfrm>
            <a:off x="77760" y="6477120"/>
            <a:ext cx="52563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59B51-3D26-4EB8-B894-5B5D8A0FED62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终端通（北京）有限公司 版权所有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400-8610-878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81" name="日期占位符 4"/>
          <p:cNvSpPr/>
          <p:nvPr/>
        </p:nvSpPr>
        <p:spPr>
          <a:xfrm>
            <a:off x="5456160" y="6500880"/>
            <a:ext cx="194652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29C72-B720-4234-B12A-6222B7E3FEE1}" type="datetime">
              <a:rPr b="0" lang="zh-CN" sz="1000" spc="-1" strike="noStrike">
                <a:solidFill>
                  <a:srgbClr val="ffffff"/>
                </a:solidFill>
                <a:latin typeface="Arial"/>
              </a:rPr>
              <a:t>26/7/31</a:t>
            </a:fld>
            <a:endParaRPr b="0" lang="en-US" sz="1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76320" y="304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黑体"/>
              </a:rPr>
              <a:t>后续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83" name="矩形 1"/>
          <p:cNvSpPr/>
          <p:nvPr/>
        </p:nvSpPr>
        <p:spPr>
          <a:xfrm>
            <a:off x="152280" y="1447920"/>
            <a:ext cx="876312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更详细的资料，请浏览网站：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109db"/>
                </a:solidFill>
                <a:uFillTx/>
                <a:latin typeface="宋体"/>
              </a:rPr>
              <a:t>www.ttcrm.com/zzb.jsp </a:t>
            </a:r>
            <a:r>
              <a:rPr b="0" lang="en-US" sz="2000" spc="-1" strike="noStrike">
                <a:solidFill>
                  <a:srgbClr val="3109db"/>
                </a:solidFill>
                <a:latin typeface="宋体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109db"/>
                </a:solidFill>
                <a:uFillTx/>
                <a:latin typeface="宋体"/>
              </a:rPr>
              <a:t>www.zdt6.cn/zzb.jsp</a:t>
            </a:r>
            <a:r>
              <a:rPr b="0" lang="en-US" sz="2000" spc="-1" strike="noStrike">
                <a:solidFill>
                  <a:srgbClr val="3109db"/>
                </a:solidFill>
                <a:latin typeface="宋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若有疑问请联系我们。我们将竭诚为你提供服务！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全国统一客服执线：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400-8610-878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工作手机：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18519233987   13501258998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客服微信号：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a13518046122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客服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QQ:3023342183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微信公众号：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zdt7777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15"/>
          <p:cNvSpPr/>
          <p:nvPr/>
        </p:nvSpPr>
        <p:spPr>
          <a:xfrm>
            <a:off x="4724280" y="6248520"/>
            <a:ext cx="161928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FDDA0-AE4B-4FEC-9644-8259E9462414}" type="datetime">
              <a:rPr b="0" lang="zh-CN" sz="1300" spc="-1" strike="noStrike">
                <a:solidFill>
                  <a:srgbClr val="adb7fd"/>
                </a:solidFill>
                <a:latin typeface="Arial"/>
              </a:rPr>
              <a:t>26/7/31</a:t>
            </a:fld>
            <a:endParaRPr b="0" lang="en-US" sz="13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85" name="Rectangle 2"/>
          <p:cNvSpPr/>
          <p:nvPr/>
        </p:nvSpPr>
        <p:spPr>
          <a:xfrm>
            <a:off x="0" y="1676520"/>
            <a:ext cx="9144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有沟通就有可能！欢迎来电！</a:t>
            </a:r>
            <a:br>
              <a:rPr sz="2800"/>
            </a:br>
            <a:br>
              <a:rPr sz="2800"/>
            </a:b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终端通（北京）科技有限公司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灯片编号占位符 3"/>
          <p:cNvSpPr/>
          <p:nvPr/>
        </p:nvSpPr>
        <p:spPr>
          <a:xfrm>
            <a:off x="77760" y="6477120"/>
            <a:ext cx="52563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708E2-B28C-47F2-996D-08A7FDE96733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终端通（北京）有限公司 版权所有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400-8610-878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48" name="日期占位符 4"/>
          <p:cNvSpPr/>
          <p:nvPr/>
        </p:nvSpPr>
        <p:spPr>
          <a:xfrm>
            <a:off x="5456160" y="6500880"/>
            <a:ext cx="194652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30BCC-525E-4A8F-A326-E2D3CDBD9DD0}" type="datetime">
              <a:rPr b="0" lang="zh-CN" sz="1000" spc="-1" strike="noStrike">
                <a:solidFill>
                  <a:srgbClr val="ffffff"/>
                </a:solidFill>
                <a:latin typeface="Arial"/>
              </a:rPr>
              <a:t>26/7/31</a:t>
            </a:fld>
            <a:endParaRPr b="0" lang="en-US" sz="1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49" name="Text Box 3"/>
          <p:cNvSpPr/>
          <p:nvPr/>
        </p:nvSpPr>
        <p:spPr>
          <a:xfrm>
            <a:off x="254160" y="2438280"/>
            <a:ext cx="8610480" cy="98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定位版简介</a:t>
            </a:r>
            <a:endParaRPr b="0" lang="en-US" sz="6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50" name="矩形 1"/>
          <p:cNvSpPr/>
          <p:nvPr/>
        </p:nvSpPr>
        <p:spPr>
          <a:xfrm>
            <a:off x="457200" y="4038480"/>
            <a:ext cx="83059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定位版集成了手机定位考勤相关的三十多个功能。如果你只想对员工定位考勤，那选择这个版本就够了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本系统会记录员工上班期间，都去了哪里，以及做了什么。员工的定位轨迹，有如下两种形式，可根据自己企业的情况选择其一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灯片编号占位符 3"/>
          <p:cNvSpPr/>
          <p:nvPr/>
        </p:nvSpPr>
        <p:spPr>
          <a:xfrm>
            <a:off x="77760" y="6477120"/>
            <a:ext cx="52563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F1173-DADF-4F04-97C3-6A9241B6705F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终端通（北京）有限公司 版权所有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400-8610-878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52" name="日期占位符 4"/>
          <p:cNvSpPr/>
          <p:nvPr/>
        </p:nvSpPr>
        <p:spPr>
          <a:xfrm>
            <a:off x="5456160" y="6500880"/>
            <a:ext cx="194652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786F1-7727-4C18-94D5-624A271CECE6}" type="datetime">
              <a:rPr b="0" lang="zh-CN" sz="1000" spc="-1" strike="noStrike">
                <a:solidFill>
                  <a:srgbClr val="ffffff"/>
                </a:solidFill>
                <a:latin typeface="Arial"/>
              </a:rPr>
              <a:t>26/7/31</a:t>
            </a:fld>
            <a:endParaRPr b="0" lang="en-US" sz="1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76320" y="304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黑体"/>
              </a:rPr>
              <a:t>1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黑体"/>
              </a:rPr>
              <a:t>）自动定位形成轨迹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pic>
        <p:nvPicPr>
          <p:cNvPr id="354" name="Picture 5" descr=""/>
          <p:cNvPicPr/>
          <p:nvPr/>
        </p:nvPicPr>
        <p:blipFill>
          <a:blip r:embed="rId1"/>
          <a:stretch/>
        </p:blipFill>
        <p:spPr>
          <a:xfrm>
            <a:off x="0" y="914400"/>
            <a:ext cx="9144000" cy="4384800"/>
          </a:xfrm>
          <a:prstGeom prst="rect">
            <a:avLst/>
          </a:prstGeom>
          <a:ln w="0">
            <a:noFill/>
          </a:ln>
        </p:spPr>
      </p:pic>
      <p:sp>
        <p:nvSpPr>
          <p:cNvPr id="355" name="矩形 1"/>
          <p:cNvSpPr/>
          <p:nvPr/>
        </p:nvSpPr>
        <p:spPr>
          <a:xfrm>
            <a:off x="228600" y="5181480"/>
            <a:ext cx="88012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如图，上班打卡（手动）启动定位，之后每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分钟定位一次（自动），直到下班打卡才停止。不上班就不会定位，不下班则一直定位。主动权在员工，不按时打卡的，依据迟到、早退、旷工等规章制度处理即可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缺点：手机必须设置（只做一次），个别员工有难度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灯片编号占位符 3"/>
          <p:cNvSpPr/>
          <p:nvPr/>
        </p:nvSpPr>
        <p:spPr>
          <a:xfrm>
            <a:off x="77760" y="6477120"/>
            <a:ext cx="52563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309C9-04EB-4E68-829F-62AC95CFF81E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终端通（北京）有限公司 版权所有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400-8610-878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57" name="日期占位符 4"/>
          <p:cNvSpPr/>
          <p:nvPr/>
        </p:nvSpPr>
        <p:spPr>
          <a:xfrm>
            <a:off x="5456160" y="6500880"/>
            <a:ext cx="194652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E6061-D2FA-4AAA-BAF2-113DF2CC9861}" type="datetime">
              <a:rPr b="0" lang="zh-CN" sz="1000" spc="-1" strike="noStrike">
                <a:solidFill>
                  <a:srgbClr val="ffffff"/>
                </a:solidFill>
                <a:latin typeface="Arial"/>
              </a:rPr>
              <a:t>26/7/31</a:t>
            </a:fld>
            <a:endParaRPr b="0" lang="en-US" sz="1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76320" y="304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黑体"/>
              </a:rPr>
              <a:t>2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黑体"/>
              </a:rPr>
              <a:t>）手工打卡形成定位轨迹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9" name="矩形 1"/>
          <p:cNvSpPr/>
          <p:nvPr/>
        </p:nvSpPr>
        <p:spPr>
          <a:xfrm>
            <a:off x="152280" y="1219320"/>
            <a:ext cx="880128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员工每到一处，手工打卡一次（每次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秒钟），系统记录当前所在位置和时间，不限打卡次数，适合任何节奏的外勤工作。 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如图，该员工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9:34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打“到达”卡，记录到达中工大厦的时间，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9:55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打“离开”卡，记录离开这里的时间，在此停留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2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分钟；之后再行走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15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分钟，于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10:1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到达增光佳苑，停留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分钟后离开，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10:33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到建材大厦，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11:25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离开建材大厦。经理根据这个轨迹判断员工当日工作是否正常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360" name="Picture 10" descr="dakagj"/>
          <p:cNvPicPr/>
          <p:nvPr/>
        </p:nvPicPr>
        <p:blipFill>
          <a:blip r:embed="rId1"/>
          <a:stretch/>
        </p:blipFill>
        <p:spPr>
          <a:xfrm>
            <a:off x="1600200" y="3408480"/>
            <a:ext cx="6095880" cy="1990440"/>
          </a:xfrm>
          <a:prstGeom prst="rect">
            <a:avLst/>
          </a:prstGeom>
          <a:ln w="0">
            <a:noFill/>
          </a:ln>
        </p:spPr>
      </p:pic>
      <p:sp>
        <p:nvSpPr>
          <p:cNvPr id="361" name="Rectangle 11"/>
          <p:cNvSpPr/>
          <p:nvPr/>
        </p:nvSpPr>
        <p:spPr>
          <a:xfrm>
            <a:off x="304920" y="5715360"/>
            <a:ext cx="8686800" cy="3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优点：员工无须设置手机，操作基本没难度。虽然，手工打卡也需要员工配合，但它排除了设置手机所带来的困扰，问题大大减少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灯片编号占位符 3"/>
          <p:cNvSpPr/>
          <p:nvPr/>
        </p:nvSpPr>
        <p:spPr>
          <a:xfrm>
            <a:off x="77760" y="6477120"/>
            <a:ext cx="52563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19CBE-26F1-458F-B560-5F82B8DA5F9B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终端通（北京）有限公司 版权所有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400-8610-878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3" name="日期占位符 4"/>
          <p:cNvSpPr/>
          <p:nvPr/>
        </p:nvSpPr>
        <p:spPr>
          <a:xfrm>
            <a:off x="5456160" y="6500880"/>
            <a:ext cx="194652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7E3A5-F9D8-4FD7-84E8-918DC713DCE8}" type="datetime">
              <a:rPr b="0" lang="zh-CN" sz="1000" spc="-1" strike="noStrike">
                <a:solidFill>
                  <a:srgbClr val="ffffff"/>
                </a:solidFill>
                <a:latin typeface="Arial"/>
              </a:rPr>
              <a:t>26/7/31</a:t>
            </a:fld>
            <a:endParaRPr b="0" lang="en-US" sz="1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76320" y="304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黑体"/>
              </a:rPr>
              <a:t>特点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5" name="矩形 1"/>
          <p:cNvSpPr/>
          <p:nvPr/>
        </p:nvSpPr>
        <p:spPr>
          <a:xfrm>
            <a:off x="380880" y="1924200"/>
            <a:ext cx="83822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●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操作简单：只要会用微信，使用本软件就不会有困难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●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防止作弊：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杜绝虚假定位；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照片只能现场拍摄；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绑定账号与手机；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手机查岗（确保是员工本人带着手机）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●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其他功能：手机请假、发送通知、待办消息、限时任务、考勤统计表、公里数统计、上班时长统计、定位点数统计、员工绩效统计等等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灯片编号占位符 3"/>
          <p:cNvSpPr/>
          <p:nvPr/>
        </p:nvSpPr>
        <p:spPr>
          <a:xfrm>
            <a:off x="77760" y="6477120"/>
            <a:ext cx="52563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0CB78-C5E5-49B4-84BF-EA778D1EF79C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终端通（北京）有限公司 版权所有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400-8610-878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7" name="日期占位符 4"/>
          <p:cNvSpPr/>
          <p:nvPr/>
        </p:nvSpPr>
        <p:spPr>
          <a:xfrm>
            <a:off x="5456160" y="6500880"/>
            <a:ext cx="194652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2FBC8-3266-4785-9B37-708CEF7531AA}" type="datetime">
              <a:rPr b="0" lang="zh-CN" sz="1000" spc="-1" strike="noStrike">
                <a:solidFill>
                  <a:srgbClr val="ffffff"/>
                </a:solidFill>
                <a:latin typeface="Arial"/>
              </a:rPr>
              <a:t>26/7/31</a:t>
            </a:fld>
            <a:endParaRPr b="0" lang="en-US" sz="1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76320" y="304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黑体"/>
              </a:rPr>
              <a:t>选择适合您企业的轨迹方式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9" name="矩形 1"/>
          <p:cNvSpPr/>
          <p:nvPr/>
        </p:nvSpPr>
        <p:spPr>
          <a:xfrm>
            <a:off x="304920" y="1981080"/>
            <a:ext cx="8381880" cy="24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轨迹记录了员工一天的行动路径，据此，判定员工是否按时上班、按时下班、按时到达每个目标位置，异常者按考勤制度处理即可。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请评估您的员工和业务特点，选择适合的轨迹方式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注意：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只要你想定位员工，就没有哪个人会乖乖就范（无论员工如何想，起码你应该充分认识到这点，这类似于给小马驹套上笼头、系上缰绳、开始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“驯马”的过程，一上来就乖的有，但是太少了），有人会想各种办法对付你，如果你的执行力不足，就要慎重考虑定位员工的事情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灯片编号占位符 3"/>
          <p:cNvSpPr/>
          <p:nvPr/>
        </p:nvSpPr>
        <p:spPr>
          <a:xfrm>
            <a:off x="77760" y="6477120"/>
            <a:ext cx="52563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A81BA-119B-4064-AA34-97B5BC0A7828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终端通（北京）有限公司 版权所有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400-8610-878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1" name="日期占位符 4"/>
          <p:cNvSpPr/>
          <p:nvPr/>
        </p:nvSpPr>
        <p:spPr>
          <a:xfrm>
            <a:off x="5456160" y="6500880"/>
            <a:ext cx="194652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67E5C-7E91-4251-A38B-A548E51BA3AB}" type="datetime">
              <a:rPr b="0" lang="zh-CN" sz="1000" spc="-1" strike="noStrike">
                <a:solidFill>
                  <a:srgbClr val="ffffff"/>
                </a:solidFill>
                <a:latin typeface="Arial"/>
              </a:rPr>
              <a:t>26/7/31</a:t>
            </a:fld>
            <a:endParaRPr b="0" lang="en-US" sz="1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76320" y="304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黑体"/>
              </a:rPr>
              <a:t>定位异常及其处理办法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73" name="矩形 1"/>
          <p:cNvSpPr/>
          <p:nvPr/>
        </p:nvSpPr>
        <p:spPr>
          <a:xfrm>
            <a:off x="304920" y="1981080"/>
            <a:ext cx="85341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当员工关闭手机的定位权限、关闭网络、不按时打卡、没有保护本软件后台运行等情况下，都会导致轨迹“中断”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无论员工干扰手机定位的方法有多少，企业只有一个有效的应对办法，那就是从制度上规定“凡是一天中失联达到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**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小时以上者，当日按旷工处理”，其他办法都效果不明显，只有这一条能从根本上解决问题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1T16:45:36Z</dcterms:created>
  <dc:creator>ttcrm</dc:creator>
  <dc:description/>
  <dc:language>en-US</dc:language>
  <cp:lastModifiedBy>lenovo</cp:lastModifiedBy>
  <dcterms:modified xsi:type="dcterms:W3CDTF">2020-12-09T02:59:49Z</dcterms:modified>
  <cp:revision>3336</cp:revision>
  <dc:subject/>
  <dc:title>ttcrm</dc:title>
</cp:coreProperties>
</file>